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84.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83.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81.xml.rels" ContentType="application/vnd.openxmlformats-package.relationships+xml"/>
  <Override PartName="/ppt/notesSlides/_rels/notesSlide108.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75.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notesSlide81.xml" ContentType="application/vnd.openxmlformats-officedocument.presentationml.notesSlide+xml"/>
  <Override PartName="/ppt/notesSlides/notesSlide79.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108.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74.xml" ContentType="application/vnd.openxmlformats-officedocument.presentationml.notesSlide+xml"/>
  <Override PartName="/ppt/notesSlides/notesSlide89.xml" ContentType="application/vnd.openxmlformats-officedocument.presentationml.notesSlide+xml"/>
  <Override PartName="/ppt/notesSlides/notesSlide29.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73.xml" ContentType="application/vnd.openxmlformats-officedocument.presentationml.notesSlide+xml"/>
  <Override PartName="/ppt/notesSlides/notesSlide84.xml" ContentType="application/vnd.openxmlformats-officedocument.presentationml.notesSlide+xml"/>
  <Override PartName="/ppt/notesSlides/notesSlide72.xml" ContentType="application/vnd.openxmlformats-officedocument.presentationml.notesSlide+xml"/>
  <Override PartName="/ppt/notesSlides/notesSlide83.xml" ContentType="application/vnd.openxmlformats-officedocument.presentationml.notesSlide+xml"/>
  <Override PartName="/ppt/notesSlides/notesSlide70.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wmf" ContentType="image/x-wmf"/>
  <Override PartName="/ppt/media/image14.png" ContentType="image/png"/>
  <Override PartName="/ppt/media/image17.wmf" ContentType="image/x-wmf"/>
  <Override PartName="/ppt/media/image16.wmf" ContentType="image/x-wmf"/>
  <Override PartName="/ppt/media/image5.png" ContentType="image/png"/>
  <Override PartName="/ppt/media/image3.png" ContentType="image/png"/>
  <Override PartName="/ppt/media/image4.png" ContentType="image/png"/>
  <Override PartName="/ppt/media/image6.png" ContentType="image/png"/>
  <Override PartName="/ppt/media/image11.png" ContentType="image/png"/>
  <Override PartName="/ppt/media/image10.wmf" ContentType="image/x-wmf"/>
  <Override PartName="/ppt/media/image2.png" ContentType="image/png"/>
  <Override PartName="/ppt/media/image1.jpeg" ContentType="image/jpeg"/>
  <Override PartName="/ppt/media/image15.wmf" ContentType="image/x-wmf"/>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141EA-4333-4986-9200-2751EE0D1C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A2FAB-0304-410E-A2EF-DD0004C536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1F43E-9AEE-4569-8267-A130E7ABA7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D3FE248-4BDB-4A7D-AFF6-9B4B20874202}"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013BB90E-3BDE-4D78-B6D7-1340C93511EB}"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F1341968-A4EC-4A29-B170-E61A591320DC}"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7FC842EA-8A5C-4A58-B1C0-0F26CF1E079F}"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77BAE0F4-07A0-450F-966F-6376C848E202}"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858D220-BD9E-42CF-813F-BADAC429257B}"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DEF9662E-FC46-4BB9-97EE-032C6E26B752}"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19985B05-DC15-4941-92CF-956C57D30AB0}"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1F07673D-D2A7-4532-98D6-C53505419794}"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47466E5-CD3B-4FB1-90C1-536D5BA7C0F0}"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99551A9-F843-4609-AF8F-A6F00E06D4A7}"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4928242B-F692-4A85-B0A8-F01E5CEDA87C}"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14E297B-41BF-4D1D-ACD0-9D756ACBF7A6}"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FA20407C-2D56-4B88-81C9-E4FF709D1B23}"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F86820F-64BB-4BF8-B9CA-C281E1CBCECF}"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79B233D9-8CD4-4F77-ACAC-26AA5F3EB27C}"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88CC722C-B84D-4632-AAFD-2324C57187DB}"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38557809-6116-4BB8-899B-29BFE51D007E}"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4807456-3061-4471-9139-0FE02DB0B9F3}"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271A4-3D56-4F66-9C79-3493E9620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9EA23-CFBB-4306-9396-FDCE27356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8A18B-6D23-4013-B927-F387753B7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DB6E2-6209-4AA0-8A55-AEA671FC5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B7F2A-C5E7-4815-A25F-53F9E5956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8D00E-1A7C-4ACF-892A-1B2AE0D3E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51DFC-B6CF-414D-B02D-24678AA35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BFA06-3927-4B87-AECD-A56F8CC96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7944D-72F4-4985-A9A2-ABA6F7786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DD079-0198-4A37-843B-3E0AC73DB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B1655-CF98-4722-93AC-3FB10CED3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CED61-F56D-4100-9F6A-5F873F6D2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065DA-0AC4-4412-BD8D-710FE03CBF29}"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Image result for training images"/>
          <p:cNvPicPr/>
          <p:nvPr/>
        </p:nvPicPr>
        <p:blipFill>
          <a:blip r:embed="rId1"/>
          <a:stretch/>
        </p:blipFill>
        <p:spPr>
          <a:xfrm>
            <a:off x="7920" y="198360"/>
            <a:ext cx="9029880" cy="6570720"/>
          </a:xfrm>
          <a:prstGeom prst="rect">
            <a:avLst/>
          </a:prstGeom>
          <a:ln w="0">
            <a:noFill/>
          </a:ln>
        </p:spPr>
      </p:pic>
      <p:sp>
        <p:nvSpPr>
          <p:cNvPr id="49" name="Rectangle 1"/>
          <p:cNvSpPr/>
          <p:nvPr/>
        </p:nvSpPr>
        <p:spPr>
          <a:xfrm>
            <a:off x="1981080" y="-76320"/>
            <a:ext cx="5791320" cy="144792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PRE-PROMOTION TRAINING</a:t>
            </a:r>
            <a:endParaRPr b="0" lang="en-US" sz="3600" spc="-1" strike="noStrike">
              <a:solidFill>
                <a:srgbClr val="000000"/>
              </a:solidFill>
              <a:latin typeface="Calibri"/>
            </a:endParaRPr>
          </a:p>
        </p:txBody>
      </p:sp>
      <p:sp>
        <p:nvSpPr>
          <p:cNvPr id="50" name="TextBox 2"/>
          <p:cNvSpPr/>
          <p:nvPr/>
        </p:nvSpPr>
        <p:spPr>
          <a:xfrm>
            <a:off x="4572000" y="1523880"/>
            <a:ext cx="23623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PROMOTION EXERCISE 2024-25 FOR OFFICERS  – EXAM DATE 14/12/2024</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HR &amp; LEGAL</a:t>
            </a:r>
            <a:endParaRPr b="0" lang="en-US" sz="1800" spc="-1" strike="noStrike">
              <a:solidFill>
                <a:srgbClr val="000000"/>
              </a:solidFill>
              <a:latin typeface="Calibri"/>
            </a:endParaRPr>
          </a:p>
        </p:txBody>
      </p:sp>
      <p:sp>
        <p:nvSpPr>
          <p:cNvPr id="51" name="TextBox 2"/>
          <p:cNvSpPr/>
          <p:nvPr/>
        </p:nvSpPr>
        <p:spPr>
          <a:xfrm>
            <a:off x="7086600" y="6553080"/>
            <a:ext cx="1905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Arial"/>
              </a:rPr>
              <a:t>Updated 16/11/2024</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228240" y="152280"/>
            <a:ext cx="8458200" cy="64771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betment (to encourage, approve, support) of or attempt of abetment of any act which amounts to misconduct</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haring of computer password</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ny wrongful/illegal activity committed through the use of computer / internet and/or violation of provisions of the Information Technology Act, 2000 (amendments thereto) / IT policy of the compan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ndulging of any sexual harassment of women at workplac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ossession of or consuming of or being under the influence of narcotics or drugs in the premises of the company</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51920"/>
            <a:ext cx="8229600" cy="6922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rPr>
              <a:t>Conveyance Scheme 2011</a:t>
            </a:r>
            <a:endParaRPr b="0" lang="en-US" sz="3600" spc="-1" strike="noStrike">
              <a:solidFill>
                <a:srgbClr val="000000"/>
              </a:solidFill>
              <a:latin typeface="Calibri Light"/>
            </a:endParaRPr>
          </a:p>
        </p:txBody>
      </p:sp>
      <p:pic>
        <p:nvPicPr>
          <p:cNvPr id="240" name="Picture 2" descr=""/>
          <p:cNvPicPr/>
          <p:nvPr/>
        </p:nvPicPr>
        <p:blipFill>
          <a:blip r:embed="rId1"/>
          <a:stretch/>
        </p:blipFill>
        <p:spPr>
          <a:xfrm>
            <a:off x="304920" y="844560"/>
            <a:ext cx="8610480" cy="60134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57200" y="-360"/>
            <a:ext cx="8229600" cy="61261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242" name="Picture 2" descr=""/>
          <p:cNvPicPr/>
          <p:nvPr/>
        </p:nvPicPr>
        <p:blipFill>
          <a:blip r:embed="rId1"/>
          <a:stretch/>
        </p:blipFill>
        <p:spPr>
          <a:xfrm>
            <a:off x="838080" y="0"/>
            <a:ext cx="7315200" cy="3373560"/>
          </a:xfrm>
          <a:prstGeom prst="rect">
            <a:avLst/>
          </a:prstGeom>
          <a:ln w="0">
            <a:noFill/>
          </a:ln>
        </p:spPr>
      </p:pic>
      <p:pic>
        <p:nvPicPr>
          <p:cNvPr id="243" name="Picture 3" descr=""/>
          <p:cNvPicPr/>
          <p:nvPr/>
        </p:nvPicPr>
        <p:blipFill>
          <a:blip r:embed="rId2"/>
          <a:stretch/>
        </p:blipFill>
        <p:spPr>
          <a:xfrm>
            <a:off x="228600" y="3581280"/>
            <a:ext cx="8458200" cy="303876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456840" y="151920"/>
            <a:ext cx="8458200" cy="63248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ote : Tyre/tube replacement – 40 months or 32000 whichever is earlier</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245" name="Picture 2" descr=""/>
          <p:cNvPicPr/>
          <p:nvPr/>
        </p:nvPicPr>
        <p:blipFill>
          <a:blip r:embed="rId1"/>
          <a:stretch/>
        </p:blipFill>
        <p:spPr>
          <a:xfrm>
            <a:off x="457200" y="53352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228600"/>
            <a:ext cx="8229600" cy="58212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Brief Cas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nce in 3 year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o all Officers including probationers/promotee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 amount is inclusive of GS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247" name=""/>
          <p:cNvGraphicFramePr/>
          <p:nvPr/>
        </p:nvGraphicFramePr>
        <p:xfrm>
          <a:off x="1295280" y="914400"/>
          <a:ext cx="6096240" cy="1854360"/>
        </p:xfrm>
        <a:graphic>
          <a:graphicData uri="http://schemas.openxmlformats.org/drawingml/2006/table">
            <a:tbl>
              <a:tblPr/>
              <a:tblGrid>
                <a:gridCol w="3048120"/>
                <a:gridCol w="3048120"/>
              </a:tblGrid>
              <a:tr h="3715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Scale</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Amount</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697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Scale VI and above</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Rs.5000</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715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Scale IV and V</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Rs.4000</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008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Scale II and III</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Rs.3000</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3715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Scale I</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Rs.2000</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5960"/>
            <a:ext cx="8229600" cy="6094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Group Mediclaim Policy</a:t>
            </a:r>
            <a:endParaRPr b="0" lang="en-US" sz="3300" spc="-1" strike="noStrike">
              <a:solidFill>
                <a:srgbClr val="000000"/>
              </a:solidFill>
              <a:latin typeface="Calibri Light"/>
            </a:endParaRPr>
          </a:p>
        </p:txBody>
      </p:sp>
      <p:sp>
        <p:nvSpPr>
          <p:cNvPr id="249" name=""/>
          <p:cNvSpPr txBox="1"/>
          <p:nvPr/>
        </p:nvSpPr>
        <p:spPr>
          <a:xfrm>
            <a:off x="457200" y="762120"/>
            <a:ext cx="8229600" cy="536400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Primary insured person – Service / retired / spouse of deceased employee / spouse of retired and deceased employee</a:t>
            </a:r>
            <a:endParaRPr b="0" lang="en-US" sz="22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Deemed primary insured person – Existing or retired whole time Director or spouse of retired and deceased whole time Director</a:t>
            </a:r>
            <a:endParaRPr b="0" lang="en-US" sz="22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Limit upto Rs.50 lakhs (For Deemed primary insured person – No limit)</a:t>
            </a:r>
            <a:endParaRPr b="0" lang="en-US" sz="22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Wef 01/10/2017 independent parents and independent parents-in-law are also covered</a:t>
            </a:r>
            <a:endParaRPr b="0" lang="en-US" sz="22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FPA to be included to decide on the eligibility sum insured</a:t>
            </a:r>
            <a:endParaRPr b="0" lang="en-US" sz="2200" spc="-1" strike="noStrike">
              <a:solidFill>
                <a:srgbClr val="000000"/>
              </a:solidFill>
              <a:latin typeface="Calibri"/>
            </a:endParaRPr>
          </a:p>
        </p:txBody>
      </p:sp>
      <p:graphicFrame>
        <p:nvGraphicFramePr>
          <p:cNvPr id="250" name=""/>
          <p:cNvGraphicFramePr/>
          <p:nvPr/>
        </p:nvGraphicFramePr>
        <p:xfrm>
          <a:off x="1523880" y="2590920"/>
          <a:ext cx="6096240" cy="1752480"/>
        </p:xfrm>
        <a:graphic>
          <a:graphicData uri="http://schemas.openxmlformats.org/drawingml/2006/table">
            <a:tbl>
              <a:tblPr/>
              <a:tblGrid>
                <a:gridCol w="3048120"/>
                <a:gridCol w="3048120"/>
              </a:tblGrid>
              <a:tr h="6426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Category of</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Sum Insured (1/4/1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Revised basic pay range</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708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5,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Less than 6726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690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6,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etween 67265 to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008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1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bove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57200" y="152280"/>
            <a:ext cx="8229600" cy="59738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Increase in sum insured slab – once in 3 years (except promotion, new additions like marriage, etc to next higher slab). </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Room Rent cap – 1% of SI upto Rs.10 lakhs and 0.50% beyond Rs.10 lakhs where CCA is payable (Rs.15000 max) &amp; 0.75% of SI upto Rs.10 lakhs and 0.50% beyond Rs.10 lakhs for other cities (Rs.12500 max)</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Ambulance charges – Rs.5000 per hospitalisation</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Maternity benefits – A Class city – Rs.50000 and others Rs.40000</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      </a:t>
            </a:r>
            <a:r>
              <a:rPr b="0" lang="en-US" sz="2000" spc="-1" strike="noStrike">
                <a:solidFill>
                  <a:srgbClr val="000000"/>
                </a:solidFill>
                <a:latin typeface="Calibri"/>
              </a:rPr>
              <a:t>C-section – A Class city – Rs.1 lakh and others Rs.65000</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Free medical check up – Once in every block of 4 claim free years – 1% of SI subject to a maximum of Rs.5000 </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Domiciliary treatment – 20% subject to a maximum of Rs.50000 except Oral Chemotherapy and Peritoneal Dialysis which is 50% of SI subject to a maximum of Rs.5 lakhs </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Maternity benefits will be available to all the beneficiaries without any waiting period</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Premium rates of independent children of retired employees and their family members will be the same as applicable to serving employees</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Content Placeholder 2"/>
          <p:cNvSpPr/>
          <p:nvPr/>
        </p:nvSpPr>
        <p:spPr>
          <a:xfrm>
            <a:off x="457200" y="152280"/>
            <a:ext cx="8229600" cy="6172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Content Placeholder 2"/>
          <p:cNvSpPr/>
          <p:nvPr/>
        </p:nvSpPr>
        <p:spPr>
          <a:xfrm>
            <a:off x="609480" y="304920"/>
            <a:ext cx="8229600" cy="6172200"/>
          </a:xfrm>
          <a:prstGeom prst="rect">
            <a:avLst/>
          </a:prstGeom>
          <a:noFill/>
          <a:ln w="0">
            <a:noFill/>
          </a:ln>
        </p:spPr>
        <p:style>
          <a:lnRef idx="0"/>
          <a:fillRef idx="0"/>
          <a:effectRef idx="0"/>
          <a:fontRef idx="minor"/>
        </p:style>
        <p:txBody>
          <a:bodyPr lIns="90000" rIns="90000" tIns="46800" bIns="46800" anchor="t">
            <a:normAutofit fontScale="95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ecrease in the optional sum insured to the immediately lower slab is permitted only in the event of decrease in family size on account of death / exit of an insured family member from the scheme with effect from the next renewal date following the date of the event.</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if there is a revision in premium, member may be allowed for decreasing the optional sum insured to any lower slab but not lower than the eligible sum insured.</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imbursement amount for purchase of pulse oxymeter upto Rs.2000/- if primary / deemed primary member or family members diagonised covid positive and treated at home on submission of claim form along with corona positive report and prescription from treating Doctor and invoice. (Per family one pulse oxymeter)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Reimbursement of cost of vaccination upto Rs.250/- per dose subject to production of original receipt.(settlement at Operating Office itself and not under GMI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151920"/>
            <a:ext cx="8229600" cy="617220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Portability – Allowed for dependent / independent family members with any of the PSGIC </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Coverage for newly recruited employees – Can enroll at the time of joining by giving in writing in regard to dependent / independent family members within 60 days from the date of joining</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Time-limit to enroll newly married spouse and his/her dependent / independent parents-in-law – within 60 days from the date of marriage. New born child after 3 months covered</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Restriction of selection covering parents / parents-in-law – If both the parents / parents-in-law are alive enrolling either of the parents / parents-in-law shall not be allowed</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Opting lower sum insured after the death of employee/retired employee is allowed</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Enrollment of child returned from abroad – Allowed once </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00% premium borne by Company upto eligible SI for S/S, FTS, PTS wef 01/04/2018</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HITPA – Health Insurance TPA of India Ltd</a:t>
            </a:r>
            <a:endParaRPr b="0" lang="en-US" sz="24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457200" y="685800"/>
            <a:ext cx="8229600" cy="544032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ntinuance of coverage for Staff GMC for the following insured members even after the death of  employee and/or spouse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In case of death of an insured member covered under staff GMC policy and there is no claim in respect of such insured member during the policy period, pro-rata period for the period from the month following the death of the insured member may be stopped from the salary in case of serving employees and in respect of retired employee the refund from the month following the death of the insured member may be giv</a:t>
            </a:r>
            <a:r>
              <a:rPr b="0" lang="en-US" sz="2400" spc="-1" strike="noStrike">
                <a:solidFill>
                  <a:srgbClr val="000000"/>
                </a:solidFill>
                <a:latin typeface="Calibri"/>
              </a:rPr>
              <a:t>en (wef 01/11/22)</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256" name="Picture 3" descr=""/>
          <p:cNvPicPr/>
          <p:nvPr/>
        </p:nvPicPr>
        <p:blipFill>
          <a:blip r:embed="rId1"/>
          <a:stretch/>
        </p:blipFill>
        <p:spPr>
          <a:xfrm>
            <a:off x="322200" y="2136600"/>
            <a:ext cx="8593200" cy="22068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28240" y="228600"/>
            <a:ext cx="8458200" cy="6477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mpassionate grounds appointmen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ffective Date : 01/11/2014 (death of employee on or after 01/11/2014)</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verage – To dependent family member of employee died while in service (including employee death by suicide) or retired on medical grounds due to incapacitation before reaching the age of 55 year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pendent family member – spouse/wholly dependent son/wholly dependent daughter/wholly dependent brother or sister for unmarried employee</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mpetent Authority – CM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osts – Clerical or Sub-Staff cadres only</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laxations – Upper age limit relaxed.  Age eligibility is based  on date of application. Spouse no upper age limit. Non-spouse – max 35 years or as per recruitment rules.  Lower age – Not below 18 yr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ime limit – 5 years from the date of deat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228600"/>
            <a:ext cx="8229600" cy="58975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5 – Scope of an employee’s service (24 X 7)</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6 – Employees not to seek outside employment (incl. honorary)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7 – Part-time work (after Office hour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8 – Obligation to maintain secrecy – during service or after retirement or resignation or discharg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9 – Evidence before committee or any other authority with previous sanction of the Competent Authorit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0 – Prohibition against participation in politics and contesting for election by filing for nomination</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1" i="1" lang="en-US" sz="2400" spc="-1" strike="noStrike">
                <a:solidFill>
                  <a:srgbClr val="002060"/>
                </a:solidFill>
                <a:latin typeface="Calibri"/>
              </a:rPr>
              <a:t>The display by an employee on his personal vehicle or residence, of any electoral symbol shall amount to using his influence in connection with an election within the meaning of any sub-rul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1 – Participation in demonstr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228240" y="228600"/>
            <a:ext cx="8458200" cy="64008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idow appointment on compassionate grounds  upon re-marriage will be allowed to continue in service even after re-marriag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issing employee – Cases of missing employee are also covered, after lapse of 2 years from the date of missing provided FIR is lodged, non- traceable.  This will not apply to an employee who has less than two years to retire or suspected to have committed fraud, joined terrorist organisation or gone abroad.</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here there is earning member – Spouse earning more than gross, application will be rejected. Otherwise he/she should resign the present job.  Spouse earning less than gross, application from other dependents can be considered.</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aximum 5% of vacancies falling  under direct recruitment quo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151920" y="152280"/>
            <a:ext cx="8534520" cy="64008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ducation Advance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ffective – 01/04/2016</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ligibility – minimum 5 years of service (Ex-servicemen – 3 year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dvance for covering expenses like admission fee (excluding capitation fee), tuition fee, non-refundable charges payable to hostel perused in India / Abroa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Quantum and frequency of advance – Maximum Rs.10 lakhs for each child and for maximum of 2 children during entire service</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dvance may be granted in installment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dvance for maximum two courses can be granted per chil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ransfer of loan is permitte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nterest – 8% for boys or 7.8% for girls student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payment – 10 year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dvance shall not be granted to suspended / Extraordinary LOP/disciplinary action is contemplat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04560" y="152280"/>
            <a:ext cx="8381880" cy="647712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GTIS COVER (introduced in the year 1997)</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vision wef  01/12/2024 (Renewal date 1</a:t>
            </a:r>
            <a:r>
              <a:rPr b="0" lang="en-US" sz="2400" spc="-1" strike="noStrike" baseline="30000">
                <a:solidFill>
                  <a:srgbClr val="000000"/>
                </a:solidFill>
                <a:latin typeface="Calibri"/>
              </a:rPr>
              <a:t>st</a:t>
            </a:r>
            <a:r>
              <a:rPr b="0" lang="en-US" sz="2400" spc="-1" strike="noStrike">
                <a:solidFill>
                  <a:srgbClr val="000000"/>
                </a:solidFill>
                <a:latin typeface="Calibri"/>
              </a:rPr>
              <a:t> December ever year)</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ote : NPS employees are also eligible to opt for GTIS as one time option.</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mployees who are not covered under Pension Scheme / NPS are not eligible to opt.</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mmencement dated for newly joined 01/09/2019.  </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mployees who join on or after 23/07/2019 are compulsorily eligible.  Existing members cannot opt out of the Scheme.</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261" name=""/>
          <p:cNvGraphicFramePr/>
          <p:nvPr/>
        </p:nvGraphicFramePr>
        <p:xfrm>
          <a:off x="1523880" y="1073160"/>
          <a:ext cx="5715000" cy="2835360"/>
        </p:xfrm>
        <a:graphic>
          <a:graphicData uri="http://schemas.openxmlformats.org/drawingml/2006/table">
            <a:tbl>
              <a:tblPr/>
              <a:tblGrid>
                <a:gridCol w="1905120"/>
                <a:gridCol w="1905120"/>
                <a:gridCol w="1904760"/>
              </a:tblGrid>
              <a:tr h="6404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Categor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Basic Pay Range (Revis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um Insur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661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46676 and abov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5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661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5766 to 1466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5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661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5351 to 10575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3661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0351 to 75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661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1686 to  40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3661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V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Up to 2168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17 BONUS</a:t>
            </a:r>
            <a:endParaRPr b="0" lang="en-US" sz="3300" spc="-1" strike="noStrike">
              <a:solidFill>
                <a:srgbClr val="000000"/>
              </a:solidFill>
              <a:latin typeface="Calibri Light"/>
            </a:endParaRPr>
          </a:p>
        </p:txBody>
      </p:sp>
      <p:sp>
        <p:nvSpPr>
          <p:cNvPr id="26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Eligibility-minimum 30 days worked in a yea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Basic+da less than 21,000- normal salary.If lop-reduced salary –not eligibl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Payment:basic+da –max:7000</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f lop proportionately reduced</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26 MEDICAL CHECK UP</a:t>
            </a:r>
            <a:endParaRPr b="0" lang="en-US" sz="3300" spc="-1" strike="noStrike">
              <a:solidFill>
                <a:srgbClr val="000000"/>
              </a:solidFill>
              <a:latin typeface="Calibri Light"/>
            </a:endParaRPr>
          </a:p>
        </p:txBody>
      </p:sp>
      <p:sp>
        <p:nvSpPr>
          <p:cNvPr id="26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cale iv &amp;abov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5000 per check up wef 01/01/2017</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Upto 50 years-one tim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50-55 yrs-two tim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bove 55-two time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31.1 GRATUITY</a:t>
            </a:r>
            <a:endParaRPr b="0" lang="en-US" sz="3300" spc="-1" strike="noStrike">
              <a:solidFill>
                <a:srgbClr val="000000"/>
              </a:solidFill>
              <a:latin typeface="Calibri Light"/>
            </a:endParaRPr>
          </a:p>
        </p:txBody>
      </p:sp>
      <p:sp>
        <p:nvSpPr>
          <p:cNvPr id="267" name=""/>
          <p:cNvSpPr txBox="1"/>
          <p:nvPr/>
        </p:nvSpPr>
        <p:spPr>
          <a:xfrm>
            <a:off x="380880" y="1371600"/>
            <a:ext cx="8305920" cy="4191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Gratuity shall be payable on termination of employment of an employee after he ha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ndered to the Company, continuous service for not less than five years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n superannuation or</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n voluntary retirement/resignation or</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n death or disablement due to accident or diseases or</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n termination (other than Vigilance) of service by the Corporation or the Compan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31.2 GRATUITY</a:t>
            </a:r>
            <a:endParaRPr b="0" lang="en-US" sz="3300" spc="-1" strike="noStrike">
              <a:solidFill>
                <a:srgbClr val="000000"/>
              </a:solidFill>
              <a:latin typeface="Calibri Light"/>
            </a:endParaRPr>
          </a:p>
        </p:txBody>
      </p:sp>
      <p:sp>
        <p:nvSpPr>
          <p:cNvPr id="26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No. of completed years of service  &amp; Rate of gratuity for each year  of service (R) (To be taken for calculation)</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Upto 11 years  50% of Basic Pay last drawn</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2 years 60%</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3 years 70%</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4 years 80% -</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5 years or more 100 %</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r service up to 30 years, maximum 15 months Basic Pay is payable. Additional gratuity @ ½ month’s Basic Pay is payable for each completed year of service beyond 30 years.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31.4 GRATUITY(clerical)</a:t>
            </a:r>
            <a:endParaRPr b="0" lang="en-US" sz="3300" spc="-1" strike="noStrike">
              <a:solidFill>
                <a:srgbClr val="000000"/>
              </a:solidFill>
              <a:latin typeface="Calibri Light"/>
            </a:endParaRPr>
          </a:p>
        </p:txBody>
      </p:sp>
      <p:sp>
        <p:nvSpPr>
          <p:cNvPr id="271" name=""/>
          <p:cNvSpPr txBox="1"/>
          <p:nvPr/>
        </p:nvSpPr>
        <p:spPr>
          <a:xfrm>
            <a:off x="457200" y="1295280"/>
            <a:ext cx="8229600" cy="452592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600" spc="-1" strike="noStrike" u="sng">
                <a:solidFill>
                  <a:srgbClr val="000000"/>
                </a:solidFill>
                <a:uFillTx/>
                <a:latin typeface="Calibri"/>
              </a:rPr>
              <a:t>Under Act:</a:t>
            </a:r>
            <a:endParaRPr b="0" lang="en-US" sz="2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600" spc="-1" strike="noStrike">
                <a:solidFill>
                  <a:srgbClr val="000000"/>
                </a:solidFill>
                <a:latin typeface="Calibri"/>
              </a:rPr>
              <a:t>Wages </a:t>
            </a:r>
            <a:r>
              <a:rPr b="1" i="1" lang="en-US" sz="2600" spc="-1" strike="noStrike">
                <a:solidFill>
                  <a:srgbClr val="000000"/>
                </a:solidFill>
                <a:latin typeface="Calibri"/>
              </a:rPr>
              <a:t>X 15 /26  X No. of years of service</a:t>
            </a:r>
            <a:endParaRPr b="0" lang="en-US" sz="2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u="sng">
                <a:solidFill>
                  <a:srgbClr val="000000"/>
                </a:solidFill>
                <a:uFillTx/>
                <a:latin typeface="Calibri"/>
              </a:rPr>
              <a:t>Under scheme</a:t>
            </a:r>
            <a:endParaRPr b="0" lang="en-US" sz="2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1.Basic * 15 years (for first 15 years of service)</a:t>
            </a:r>
            <a:endParaRPr b="0" lang="en-US" sz="2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2. Basic/2 * years in excess of 15 years</a:t>
            </a:r>
            <a:endParaRPr b="0" lang="en-US" sz="2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Total = 1+2 = not exceeding 20 months basic</a:t>
            </a:r>
            <a:endParaRPr b="0" lang="en-US" sz="26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libri"/>
              </a:rPr>
              <a:t>Under Scheme – Basic – basic +  FPA</a:t>
            </a:r>
            <a:endParaRPr b="0" lang="en-US" sz="17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libri"/>
              </a:rPr>
              <a:t>       </a:t>
            </a:r>
            <a:r>
              <a:rPr b="0" lang="en-US" sz="1700" spc="-1" strike="noStrike">
                <a:solidFill>
                  <a:srgbClr val="000000"/>
                </a:solidFill>
                <a:latin typeface="Calibri"/>
              </a:rPr>
              <a:t>Under Act   -        wages – basic +FPA + DA</a:t>
            </a:r>
            <a:endParaRPr b="0" lang="en-US" sz="17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Note : Only commuted value of pension (for pension optees) or Company’s contribution to PF / Gratuity shall be withheld by the Company till vacation of the company’s accommodation by the employees/family. </a:t>
            </a:r>
            <a:endParaRPr b="0" lang="en-US" sz="2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31.3 GRATUITY -officers</a:t>
            </a:r>
            <a:endParaRPr b="0" lang="en-US" sz="3300" spc="-1" strike="noStrike">
              <a:solidFill>
                <a:srgbClr val="000000"/>
              </a:solidFill>
              <a:latin typeface="Calibri Light"/>
            </a:endParaRPr>
          </a:p>
        </p:txBody>
      </p:sp>
      <p:sp>
        <p:nvSpPr>
          <p:cNvPr id="273" name=""/>
          <p:cNvSpPr txBox="1"/>
          <p:nvPr/>
        </p:nvSpPr>
        <p:spPr>
          <a:xfrm>
            <a:off x="628560" y="1825200"/>
            <a:ext cx="7886880" cy="435132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u="sng">
                <a:solidFill>
                  <a:srgbClr val="000000"/>
                </a:solidFill>
                <a:uFillTx/>
                <a:latin typeface="Calibri"/>
              </a:rPr>
              <a:t>Under scheme</a:t>
            </a:r>
            <a:r>
              <a:rPr b="0" lang="en-US" sz="1800" spc="-1" strike="noStrike">
                <a:solidFill>
                  <a:srgbClr val="000000"/>
                </a:solidFill>
                <a:latin typeface="Calibri"/>
              </a:rPr>
              <a:t>: (a) GRATUITY AMOUNT FOR SERVICE UP TO 30 YEARS</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800" spc="-1" strike="noStrike">
                <a:solidFill>
                  <a:srgbClr val="000000"/>
                </a:solidFill>
                <a:latin typeface="Calibri"/>
              </a:rPr>
              <a:t>Basic Pay </a:t>
            </a:r>
            <a:r>
              <a:rPr b="1" i="1" lang="en-US" sz="1800" spc="-1" strike="noStrike">
                <a:solidFill>
                  <a:srgbClr val="000000"/>
                </a:solidFill>
                <a:latin typeface="Calibri"/>
              </a:rPr>
              <a:t>X No. of yrs of service X  R*</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max. 15 years)</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 GRATUITY AMOUNT FOR SERVICE OVER 30 YEARS</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800" spc="-1" strike="noStrike">
                <a:solidFill>
                  <a:srgbClr val="000000"/>
                </a:solidFill>
                <a:latin typeface="Calibri"/>
              </a:rPr>
              <a:t>Basic Pay/2    </a:t>
            </a:r>
            <a:r>
              <a:rPr b="1" i="1" lang="en-US" sz="1800" spc="-1" strike="noStrike">
                <a:solidFill>
                  <a:srgbClr val="000000"/>
                </a:solidFill>
                <a:latin typeface="Calibri"/>
              </a:rPr>
              <a:t>X Years in excess of 30 years</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Gratuity Amount as per Rationalization Scheme : a + b</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 means Rate of Gratuity as given above (For service more than 15 years, limit</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he number of years to 15)</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800" spc="-1" strike="noStrike" u="sng">
                <a:solidFill>
                  <a:srgbClr val="000000"/>
                </a:solidFill>
                <a:uFillTx/>
                <a:latin typeface="Calibri"/>
              </a:rPr>
              <a:t>Under Act:</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800" spc="-1" strike="noStrike">
                <a:solidFill>
                  <a:srgbClr val="000000"/>
                </a:solidFill>
                <a:latin typeface="Calibri"/>
              </a:rPr>
              <a:t>Wages </a:t>
            </a:r>
            <a:r>
              <a:rPr b="1" i="1" lang="en-US" sz="1800" spc="-1" strike="noStrike">
                <a:solidFill>
                  <a:srgbClr val="000000"/>
                </a:solidFill>
                <a:latin typeface="Calibri"/>
              </a:rPr>
              <a:t>X 15 /26  X No. of years of service</a:t>
            </a:r>
            <a:endParaRPr b="0" lang="en-US" sz="18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Max. 20.00 lacs under Gratutiy Act)</a:t>
            </a:r>
            <a:endParaRPr b="0" lang="en-US" sz="18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Under Scheme – Basic – basic +  FPA</a:t>
            </a:r>
            <a:endParaRPr b="0" lang="en-US" sz="18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Under Act   -        wages – basic +FPA + D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ENSION</a:t>
            </a:r>
            <a:endParaRPr b="0" lang="en-US" sz="4400" spc="-1" strike="noStrike">
              <a:solidFill>
                <a:srgbClr val="000000"/>
              </a:solidFill>
              <a:latin typeface="Calibri"/>
            </a:endParaRPr>
          </a:p>
        </p:txBody>
      </p:sp>
      <p:sp>
        <p:nvSpPr>
          <p:cNvPr id="275"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ypes of Pension – </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Superannuation Pension</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Pension on voluntary retirement</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Invalid Pension – Min 10 years, retires on account of any bodily or mental infirmity which permanently incapacitates </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ompassionate Allowance – Employee dismissed or removed from service shall forfeit his pension, provided Competent Authority considers deserving sanction compassionate allowance not exceeding two-thirds of pension</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amily Pension</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Provisional Pension</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ommutation upto 1/3</a:t>
            </a:r>
            <a:r>
              <a:rPr b="1" lang="en-US" sz="2000" spc="-1" strike="noStrike" baseline="30000">
                <a:solidFill>
                  <a:srgbClr val="000000"/>
                </a:solidFill>
                <a:latin typeface="Calibri"/>
                <a:ea typeface="Arial"/>
              </a:rPr>
              <a:t>rd</a:t>
            </a:r>
            <a:r>
              <a:rPr b="1" lang="en-US" sz="2000" spc="-1" strike="noStrike">
                <a:solidFill>
                  <a:srgbClr val="000000"/>
                </a:solidFill>
                <a:latin typeface="Calibri"/>
                <a:ea typeface="Arial"/>
              </a:rPr>
              <a:t> is applicable for all except family pension and Provisional Pension)</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INIMUM PENSION – Rs.4070 (retired and/or died on or after 01/08/201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152280"/>
            <a:ext cx="8229600" cy="597384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2 – Connection with Press and Radio – prior sanction to be obtained by the employee, except contribution is occasional, purely literary, artistic or scientific character, statement made by Office-bearers of registered trade union</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3 – Acceptance of gifts – gift shall include free transport, boarding, lodging, etc – gifts from relatives – Rs.10000/-, personal friends – Rs.7000/- and others – Rs.5000/-(if from same person gift received is more than once in the same year, should inform Competent Authority) if aggregate value exceeds Rs.5000/-</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Rule 14 – Private trading – Employee or his relatives shall not act as an insurance agent (Relatives means spouse, dependent children/dependent step children residing with the employee or not)</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5 – Speculation in stocks / shares – Frequent purchase and sale of stock, shares, securities or other investment shall be deemed to be speculation within the meaning of this rule</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Pension Calculation</a:t>
            </a:r>
            <a:endParaRPr b="0" lang="en-US" sz="3300" spc="-1" strike="noStrike">
              <a:solidFill>
                <a:srgbClr val="000000"/>
              </a:solidFill>
              <a:latin typeface="Calibri Light"/>
            </a:endParaRPr>
          </a:p>
        </p:txBody>
      </p:sp>
      <p:graphicFrame>
        <p:nvGraphicFramePr>
          <p:cNvPr id="277" name=""/>
          <p:cNvGraphicFramePr/>
          <p:nvPr/>
        </p:nvGraphicFramePr>
        <p:xfrm>
          <a:off x="76320" y="1219320"/>
          <a:ext cx="4572000" cy="5427720"/>
        </p:xfrm>
        <a:graphic>
          <a:graphicData uri="http://schemas.openxmlformats.org/drawingml/2006/table">
            <a:tbl>
              <a:tblPr/>
              <a:tblGrid>
                <a:gridCol w="546120"/>
                <a:gridCol w="912600"/>
                <a:gridCol w="1006560"/>
                <a:gridCol w="639720"/>
                <a:gridCol w="784080"/>
                <a:gridCol w="682920"/>
              </a:tblGrid>
              <a:tr h="210960">
                <a:tc gridSpan="5">
                  <a:txBody>
                    <a:bodyPr lIns="0" rIns="0" tIns="0" bIns="0" anchor="b">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UNITED INDIA INSURANCE COMPANY LIMITED</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gridSpan="5">
                  <a:txBody>
                    <a:bodyPr lIns="0" rIns="0" tIns="0" bIns="0" anchor="b">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PENSION DEPARTMENT HEAD OFFICE CHENNAI</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9392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NAME</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XXXXXXXX</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096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EMP.NO</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9999</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132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DATE OF BIRTH</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0/08/196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DATE OF JOINING</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20/11/1987</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20/11/1987</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0456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PRESENT OFFICE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OFFICE CODE</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0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OFFICE NAME</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HEAD OFFICE</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132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LOP DETAILS</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DATE OF EXI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31/08/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31/08/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096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MODE OF EXIT</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RETIREMENT</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88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096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S.NO</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MONTH</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BASIC PAY</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FPA</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TOTAL</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Aug-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132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2</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Jul-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3</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Jun-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096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4</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May-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Apr-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132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6</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Mar-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7</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Feb-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096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8</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Jan-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Dec-202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8909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084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132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Nov-202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8909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084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TOTAL</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056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132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AVERAGE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056</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graphicFrame>
        <p:nvGraphicFramePr>
          <p:cNvPr id="278" name=""/>
          <p:cNvGraphicFramePr/>
          <p:nvPr/>
        </p:nvGraphicFramePr>
        <p:xfrm>
          <a:off x="4876920" y="1276200"/>
          <a:ext cx="4114800" cy="5276880"/>
        </p:xfrm>
        <a:graphic>
          <a:graphicData uri="http://schemas.openxmlformats.org/drawingml/2006/table">
            <a:tbl>
              <a:tblPr/>
              <a:tblGrid>
                <a:gridCol w="490320"/>
                <a:gridCol w="822600"/>
                <a:gridCol w="906120"/>
                <a:gridCol w="574920"/>
                <a:gridCol w="706320"/>
                <a:gridCol w="614520"/>
              </a:tblGrid>
              <a:tr h="23832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gridSpan="2">
                  <a:txBody>
                    <a:bodyPr lIns="0" rIns="0" tIns="0" bIns="0" anchor="b">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33 years 9 Months 11 days</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33</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796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9</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9</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832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11</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11</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796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832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Completed service</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34</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944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For pension calculation</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33</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796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Average basic pay</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93056</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8320">
                <a:tc gridSpan="3">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50% OF AVERAGE BASIC PAY</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46528</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796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COMMUTATION</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YES</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796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AGE OF COMM</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r>
                        <a:rPr b="0" lang="en-US" sz="1100" spc="-1" strike="noStrike">
                          <a:solidFill>
                            <a:srgbClr val="000000"/>
                          </a:solidFill>
                          <a:latin typeface="Calibri"/>
                        </a:rPr>
                        <a:t>1/3</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33 1/3</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15509.30</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15509.00</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56844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REVISED BASIC PAY</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31019.00</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832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DA</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808</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37595.00</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944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PENSION</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68614.00</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908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COMMUTATION DATE</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31/08/2021</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832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COMMUTATION AGE</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60</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61</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944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COMMUTATION RATE</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9.81</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57132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COMMUTATION AMOUNT</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1825719</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457200" y="685800"/>
            <a:ext cx="8229600" cy="5440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200" spc="-1" strike="noStrike">
                <a:solidFill>
                  <a:srgbClr val="000000"/>
                </a:solidFill>
                <a:latin typeface="Calibri"/>
              </a:rPr>
              <a:t>Automatic Pension coverage – Those joined on or after 28/06/1995 to 31/03/2010</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200" spc="-1" strike="noStrike">
                <a:solidFill>
                  <a:srgbClr val="000000"/>
                </a:solidFill>
                <a:latin typeface="Calibri"/>
              </a:rPr>
              <a:t>Employees who were appointed before 28/06/1995 are only eligible to join pension under this Scheme</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200" spc="-1" strike="noStrike">
                <a:solidFill>
                  <a:srgbClr val="000000"/>
                </a:solidFill>
                <a:latin typeface="Calibri"/>
              </a:rPr>
              <a:t>Employees who went on VRS under TSR Scheme, SVRS 2004, SVRP 2003, Golden Gate are also eligible to join provided they have put at least 20 years of qualifying service (notional benefit of max 5 years will not be given)</a:t>
            </a:r>
            <a:endParaRPr b="0" lang="en-US" sz="2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400" spc="-1" strike="noStrike">
                <a:solidFill>
                  <a:srgbClr val="000000"/>
                </a:solidFill>
                <a:latin typeface="Calibri"/>
              </a:rPr>
              <a:t>  </a:t>
            </a:r>
            <a:r>
              <a:rPr b="1" lang="en-IN" sz="2400" spc="-1" strike="noStrike">
                <a:solidFill>
                  <a:srgbClr val="000000"/>
                </a:solidFill>
                <a:latin typeface="Calibri"/>
              </a:rPr>
              <a:t>Category          Effective Date of Pension / Family Pension</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I                      Pension – w.e.f. the date following the date of</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                                             </a:t>
            </a:r>
            <a:r>
              <a:rPr b="0" lang="en-IN" sz="2400" spc="-1" strike="noStrike">
                <a:solidFill>
                  <a:srgbClr val="000000"/>
                </a:solidFill>
                <a:latin typeface="Calibri"/>
              </a:rPr>
              <a:t>Retirement</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II                     Pension – w.e.f. 23.04.2019</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III, IV               Family Pension – w.e.f. 23.04.2019</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Pre-1986 retirees – Medical Relief</a:t>
            </a:r>
            <a:endParaRPr b="0" lang="en-US" sz="3300" spc="-1" strike="noStrike">
              <a:solidFill>
                <a:srgbClr val="000000"/>
              </a:solidFill>
              <a:latin typeface="Calibri Light"/>
            </a:endParaRPr>
          </a:p>
        </p:txBody>
      </p:sp>
      <p:sp>
        <p:nvSpPr>
          <p:cNvPr id="281" name=""/>
          <p:cNvSpPr txBox="1"/>
          <p:nvPr/>
        </p:nvSpPr>
        <p:spPr>
          <a:xfrm>
            <a:off x="457200" y="1295280"/>
            <a:ext cx="8229600" cy="45259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Wef  01/08/2022 – ex-gratia payable is and medical relief wef 01/01/2023</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282" name="Picture 3" descr=""/>
          <p:cNvPicPr/>
          <p:nvPr/>
        </p:nvPicPr>
        <p:blipFill>
          <a:blip r:embed="rId1"/>
          <a:stretch/>
        </p:blipFill>
        <p:spPr>
          <a:xfrm>
            <a:off x="1447920" y="2655720"/>
            <a:ext cx="6858000" cy="1001880"/>
          </a:xfrm>
          <a:prstGeom prst="rect">
            <a:avLst/>
          </a:prstGeom>
          <a:ln w="0">
            <a:noFill/>
          </a:ln>
        </p:spPr>
      </p:pic>
      <p:pic>
        <p:nvPicPr>
          <p:cNvPr id="283" name="Picture 4" descr=""/>
          <p:cNvPicPr/>
          <p:nvPr/>
        </p:nvPicPr>
        <p:blipFill>
          <a:blip r:embed="rId2"/>
          <a:stretch/>
        </p:blipFill>
        <p:spPr>
          <a:xfrm>
            <a:off x="1143000" y="4267080"/>
            <a:ext cx="7848720" cy="106704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Adoption of uniform designation</a:t>
            </a:r>
            <a:endParaRPr b="0" lang="en-US" sz="3300" spc="-1" strike="noStrike">
              <a:solidFill>
                <a:srgbClr val="000000"/>
              </a:solidFill>
              <a:latin typeface="Calibri Light"/>
            </a:endParaRPr>
          </a:p>
        </p:txBody>
      </p:sp>
      <p:graphicFrame>
        <p:nvGraphicFramePr>
          <p:cNvPr id="285" name=""/>
          <p:cNvGraphicFramePr/>
          <p:nvPr/>
        </p:nvGraphicFramePr>
        <p:xfrm>
          <a:off x="628560" y="1825560"/>
          <a:ext cx="7886880" cy="2225880"/>
        </p:xfrm>
        <a:graphic>
          <a:graphicData uri="http://schemas.openxmlformats.org/drawingml/2006/table">
            <a:tbl>
              <a:tblPr/>
              <a:tblGrid>
                <a:gridCol w="2409840"/>
                <a:gridCol w="5477040"/>
              </a:tblGrid>
              <a:tr h="371520">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cale</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Incharge’s Designation</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70080">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usiness Officer</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71160">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I</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usiness Manager</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1520">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II</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enior Business Manager</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70080">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V</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hief Business Manager</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1520">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V</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egional Manager – CBO/KBO also Head LCB</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628560" y="1825200"/>
            <a:ext cx="7886880" cy="4351320"/>
          </a:xfrm>
          <a:prstGeom prst="rect">
            <a:avLst/>
          </a:prstGeom>
          <a:noFill/>
          <a:ln w="0">
            <a:noFill/>
          </a:ln>
        </p:spPr>
        <p:txBody>
          <a:bodyPr anchor="t">
            <a:normAutofit/>
          </a:bodyPr>
          <a:p>
            <a:pPr marL="171360" indent="-171360"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QUERIES, IF ANY</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1600200"/>
            <a:ext cx="8229600" cy="4952880"/>
          </a:xfrm>
          <a:prstGeom prst="rect">
            <a:avLst/>
          </a:prstGeom>
          <a:noFill/>
          <a:ln w="0">
            <a:noFill/>
          </a:ln>
        </p:spPr>
        <p:txBody>
          <a:bodyPr anchor="t">
            <a:norm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800" spc="-1" strike="noStrike">
                <a:solidFill>
                  <a:srgbClr val="000000"/>
                </a:solidFill>
                <a:latin typeface="Calibri"/>
              </a:rPr>
              <a:t>THANK YOU </a:t>
            </a:r>
            <a:endParaRPr b="0" lang="en-US" sz="4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800" spc="-1" strike="noStrike">
                <a:solidFill>
                  <a:srgbClr val="000000"/>
                </a:solidFill>
                <a:latin typeface="Calibri"/>
              </a:rPr>
              <a:t>&amp; </a:t>
            </a:r>
            <a:endParaRPr b="0" lang="en-US" sz="4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800" spc="-1" strike="noStrike">
                <a:solidFill>
                  <a:srgbClr val="000000"/>
                </a:solidFill>
                <a:latin typeface="Calibri"/>
              </a:rPr>
              <a:t>ALL THE BEST </a:t>
            </a:r>
            <a:endParaRPr b="0" lang="en-US" sz="4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800" spc="-1" strike="noStrike">
                <a:solidFill>
                  <a:srgbClr val="000000"/>
                </a:solidFill>
                <a:latin typeface="Calibri"/>
              </a:rPr>
              <a:t>FOR THE EXAM</a:t>
            </a:r>
            <a:endParaRPr b="0" lang="en-US" sz="4800" spc="-1" strike="noStrike">
              <a:solidFill>
                <a:srgbClr val="000000"/>
              </a:solidFill>
              <a:latin typeface="Calibri"/>
            </a:endParaRPr>
          </a:p>
          <a:p>
            <a:pPr algn="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2f5597"/>
                </a:solidFill>
                <a:latin typeface="Calibri"/>
              </a:rPr>
              <a:t>B BHASKAR</a:t>
            </a:r>
            <a:endParaRPr b="0" lang="en-US" sz="2400" spc="-1" strike="noStrike">
              <a:solidFill>
                <a:srgbClr val="000000"/>
              </a:solidFill>
              <a:latin typeface="Calibri"/>
            </a:endParaRPr>
          </a:p>
          <a:p>
            <a:pPr algn="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2f5597"/>
                </a:solidFill>
                <a:latin typeface="Calibri"/>
              </a:rPr>
              <a:t>CHIEF MANAGER</a:t>
            </a:r>
            <a:endParaRPr b="0" lang="en-US" sz="2400" spc="-1" strike="noStrike">
              <a:solidFill>
                <a:srgbClr val="000000"/>
              </a:solidFill>
              <a:latin typeface="Calibri"/>
            </a:endParaRPr>
          </a:p>
          <a:p>
            <a:pPr algn="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2f5597"/>
                </a:solidFill>
                <a:latin typeface="Calibri"/>
              </a:rPr>
              <a:t>HO – HEALTH DEP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51920" y="228600"/>
            <a:ext cx="8534520" cy="64008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6 – Restriction on borrowing and investments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i="1" lang="en-US" sz="2400" spc="-1" strike="noStrike">
                <a:solidFill>
                  <a:srgbClr val="548235"/>
                </a:solidFill>
                <a:latin typeface="Calibri"/>
              </a:rPr>
              <a:t>16 A – Submission of property returns – immovable property exceeds 2 months basic salary – Annual return before 30</a:t>
            </a:r>
            <a:r>
              <a:rPr b="0" i="1" lang="en-US" sz="2400" spc="-1" strike="noStrike" baseline="30000">
                <a:solidFill>
                  <a:srgbClr val="548235"/>
                </a:solidFill>
                <a:latin typeface="Calibri"/>
              </a:rPr>
              <a:t>th</a:t>
            </a:r>
            <a:r>
              <a:rPr b="0" i="1" lang="en-US" sz="2400" spc="-1" strike="noStrike">
                <a:solidFill>
                  <a:srgbClr val="548235"/>
                </a:solidFill>
                <a:latin typeface="Calibri"/>
              </a:rPr>
              <a:t> April –Transactions above 2 months basic salary to be reported within 30 days to the competent authorit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7 – Employees in debt – Employees who is in debt shall furnish to the competent authority half yearly statement – 31</a:t>
            </a:r>
            <a:r>
              <a:rPr b="0" lang="en-US" sz="2400" spc="-1" strike="noStrike" baseline="30000">
                <a:solidFill>
                  <a:srgbClr val="000000"/>
                </a:solidFill>
                <a:latin typeface="Calibri"/>
              </a:rPr>
              <a:t>st</a:t>
            </a:r>
            <a:r>
              <a:rPr b="0" lang="en-US" sz="2400" spc="-1" strike="noStrike">
                <a:solidFill>
                  <a:srgbClr val="000000"/>
                </a:solidFill>
                <a:latin typeface="Calibri"/>
              </a:rPr>
              <a:t>  March and 30</a:t>
            </a:r>
            <a:r>
              <a:rPr b="0" lang="en-US" sz="2400" spc="-1" strike="noStrike" baseline="30000">
                <a:solidFill>
                  <a:srgbClr val="000000"/>
                </a:solidFill>
                <a:latin typeface="Calibri"/>
              </a:rPr>
              <a:t>th</a:t>
            </a:r>
            <a:r>
              <a:rPr b="0" lang="en-US" sz="2400" spc="-1" strike="noStrike">
                <a:solidFill>
                  <a:srgbClr val="000000"/>
                </a:solidFill>
                <a:latin typeface="Calibri"/>
              </a:rPr>
              <a:t> September about his position</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i="1" lang="en-US" sz="2400" spc="-1" strike="noStrike">
                <a:solidFill>
                  <a:srgbClr val="548235"/>
                </a:solidFill>
                <a:latin typeface="Calibri"/>
              </a:rPr>
              <a:t>Meaning of debt – Total liabilities exceeds 6 months basic salar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8 – Employees not to be absent from duty without permission or be late in attendance – one day’s CL without prior sanction is allowed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9 – Absence from station – No employee shall absent himself from his station overnight without prior sanction</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151920" y="152280"/>
            <a:ext cx="8534520" cy="64771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0 – Suspension –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Appropriate Authority may place an employee under suspension</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1) disciplinary proceedings against him i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contemplated or is pending</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2) criminal offence is under investigation or trial</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3) detained in custody whether on  a criminal</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charge or otherwise for a period </a:t>
            </a:r>
            <a:r>
              <a:rPr b="1" lang="en-US" sz="2400" spc="-1" strike="noStrike" u="sng">
                <a:solidFill>
                  <a:srgbClr val="000000"/>
                </a:solidFill>
                <a:uFillTx/>
                <a:latin typeface="Calibri"/>
              </a:rPr>
              <a:t>exceeding 48</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                  </a:t>
            </a:r>
            <a:r>
              <a:rPr b="1" lang="en-US" sz="2400" spc="-1" strike="noStrike" u="sng">
                <a:solidFill>
                  <a:srgbClr val="000000"/>
                </a:solidFill>
                <a:uFillTx/>
                <a:latin typeface="Calibri"/>
              </a:rPr>
              <a:t> </a:t>
            </a:r>
            <a:r>
              <a:rPr b="1" lang="en-US" sz="2400" spc="-1" strike="noStrike" u="sng">
                <a:solidFill>
                  <a:srgbClr val="000000"/>
                </a:solidFill>
                <a:uFillTx/>
                <a:latin typeface="Calibri"/>
              </a:rPr>
              <a:t>hours</a:t>
            </a:r>
            <a:r>
              <a:rPr b="0" lang="en-US" sz="2400" spc="-1" strike="noStrike">
                <a:solidFill>
                  <a:srgbClr val="000000"/>
                </a:solidFill>
                <a:latin typeface="Calibri"/>
              </a:rPr>
              <a:t> –deemed suspension from the date of</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detention</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view of suspension – once in three months for appropriate decisions or payment of appropriate subsistence allowance</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52280" y="-360"/>
            <a:ext cx="8686800" cy="67057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1 – Subsistence Allowance – 50% of monthly / gross emoluments (comprising of BP, DA, HRA, CCA, HSA, QP, personal pay, special pay and deputation allowance) drawn on the date immediately prior to the date on which the employee is suspended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vary the subsistence allowance after 6 month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ncreased to 75% if the reasons for delay is not attributed to the</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mployee (employee shall have no right to claim increased SA)</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reduced to 25% if the reason is directly attributed to the</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mployee</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No subsistence Allowance during period of detention by the police</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r Rule 20 &amp; 21 – Appropriate Authority shall mean an authority competent to impose major penalty</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400" spc="-1" strike="noStrike">
                <a:solidFill>
                  <a:srgbClr val="548235"/>
                </a:solidFill>
                <a:latin typeface="Calibri"/>
              </a:rPr>
              <a:t>Eg – Appropriate Authority for Asst., RC, SS or equivalent cadres – Head of Office concerned or department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228240" y="228600"/>
            <a:ext cx="8458200" cy="64008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mpulsory deductions – income tax, compensation for the use of accommodation allotted, repayment of loans and advance taken from the company, medical benefit insurance scheme premium</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voluntary deductions – lic premium, cooperative society, refund of loan taken from pf</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o duductions – towards pf, amount due under court attachment, recovery of any loss which employee may have caused to the compan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152280" y="75960"/>
            <a:ext cx="8763120" cy="655308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2 – Treatment of period of suspension – Any period of absence which has not been treated as period spent on duty or on leave shall not count for service for any purpose but will not constitute as break in service – Refund of subsistence allowance by the employee cannot be compelled.</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3 – Penalties –  are being imposed by Disciplinary Authority only</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Minor Penalties –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a) Censure.</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b) Withholding of one or more increments for a specified perio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c) Recovery of the whole or part of any pecuniary loss caused to the Company by negligence or breach of orders from pay or such other amount as may be due to him.</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d) Reduction to a lower stage in the time-scale for a period not exceeding three years without cumulative effec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75960" y="0"/>
            <a:ext cx="8762760" cy="68580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Major Penalties</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 Withholding of one or more increments permanently.</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f) Reduction to a lower service or post or to a lower time-scale or to a lower stage in a time-scale.</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g) Compulsory retiremen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h) Removal from service which shall not be a disqualification for future employmen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 Dismissal which shall ordinarily be a disqualification for future employment.</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 following shall not amount  as penalty – withholding of increment for unsatisfactory work, stoppage of an employee at the efficiency bar in a time-scale, non-promotion, reversion to a lower grade or post of an employee officiating in a higher grade or post, reversion on probation, termination of employee appointed on probation, temporary capacity, etc.,</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4 - Disciplinary Authority – Mentioned in the Schedule or higher authority to the competent authority may impose any of the penalties mentioned in Rule 23 on any employe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52280" y="152280"/>
            <a:ext cx="8763120" cy="65534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5 – Procedure for imposing major penalties – only after inquiry</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nquiring Authority(IO) – Retired officer or any public servant (always one step higher than the Presenting Officer (PO))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Charge-sheeted employee should submit his reply within 15 days (or extension of another 15 days – Max 45 days) on receipt of articles of charges (list of charges leveled against him in writing by the disciplinary authority, inquiry will not be concluded even if the employee is superannuated but to be completed within 3 months from the date of superannuation).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esenting Officer – To present on its behalf of the case in support of the articles of charges (list of charges levelled against the CSE)</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fence Assistant – Employee may take assistance of any employee of the Company only (Defence Assistant – not more than 2 cases outside RO.  Employee acting against breach of this Rule shall not be entitled for TA/DA)</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o inquiry if the employee admits the charg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5960"/>
            <a:ext cx="7772400" cy="146988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500" spc="-1" strike="noStrike">
                <a:solidFill>
                  <a:srgbClr val="000000"/>
                </a:solidFill>
                <a:latin typeface="Calibri Light"/>
              </a:rPr>
              <a:t>CHAPTERS</a:t>
            </a:r>
            <a:endParaRPr b="0" lang="en-US" sz="4500" spc="-1" strike="noStrike">
              <a:solidFill>
                <a:srgbClr val="000000"/>
              </a:solidFill>
              <a:latin typeface="Calibri Light"/>
            </a:endParaRPr>
          </a:p>
        </p:txBody>
      </p:sp>
      <p:sp>
        <p:nvSpPr>
          <p:cNvPr id="53" name="PlaceHolder 2"/>
          <p:cNvSpPr>
            <a:spLocks noGrp="1"/>
          </p:cNvSpPr>
          <p:nvPr>
            <p:ph type="subTitle"/>
          </p:nvPr>
        </p:nvSpPr>
        <p:spPr>
          <a:xfrm>
            <a:off x="837720" y="1294920"/>
            <a:ext cx="8001000" cy="4953240"/>
          </a:xfrm>
          <a:prstGeom prst="rect">
            <a:avLst/>
          </a:prstGeom>
          <a:noFill/>
          <a:ln w="0">
            <a:noFill/>
          </a:ln>
        </p:spPr>
        <p:txBody>
          <a:bodyPr anchor="t">
            <a:noAutofit/>
          </a:bodyPr>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DA RULE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DMINISTRATIVE INSTRUCTIONS ON WAGE REVISION – CLASS I, II, III &amp; IV</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MOTION POLICY FOR OFFICER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RANSFER AND MOBILITY POLICY FOR OFFICER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CRUITMENT RULE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LEAVE RULE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MOTION POLICY FOR CLASS III / IV EMPLOYEE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LOANS AND ADVANCE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BENEFIT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GRATUITY / PENSION CALCU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228600" y="152280"/>
            <a:ext cx="8686800" cy="647712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f the employee does not appear in person, inquiry authority will hold the inquiry ex-parte</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fter conclusion of inquiry, report shall be prepared on articles of charges and the statement of the imputations or mis-conduct or mis-behaviour, defence of the employee, assessment of evidence and findings</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The Inquiring Authority should submit his report within 6 months.</a:t>
            </a:r>
            <a:endParaRPr b="0" lang="en-US" sz="20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6 – Action on the inquiry report  - Disciplinary Authority will go through the report and further action will be taken.</a:t>
            </a:r>
            <a:endParaRPr b="0" lang="en-US" sz="24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Rule 27 – Procedure for imposing minor penalties – Employee is informed in writing of the imputation of mis-conduct / mis-behaviour.  Employee within 15 days has to reply</a:t>
            </a:r>
            <a:endParaRPr b="0" lang="en-US" sz="22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Rule 28 – Communication of Orders – Delivered personally to the employee / sent by registered post (if cannot be done, affixed on notice board)</a:t>
            </a:r>
            <a:endParaRPr b="0" lang="en-US" sz="22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9 – Common proceedings – Two or more employees concerned in a case, the authority competent to impose major penalty on the employee of the highest cadr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228600" y="152280"/>
            <a:ext cx="8610480" cy="64008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30 – Special procedure in certain cases – employee has been convicted on criminal charge, not reasonably practicable, due to interest of the security of the company, employee has abandoned the post (employee absents himself without leave or overstays his leave for a continuous period of 90 days without any intimation)  without holding any inquir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31 – Right to appeal – Appeal to the Appellate Authority (superior to the authority which has passed the order of penalt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32 – Period of limitations of appeal – within a period of 3 months from the date of receipt of copy of order</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33 – Form and contents of appeal – in his own nam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34 – Submission of appeal - Every appeal shall be submitted through the authority which made the order appealed against, Provided further that a copy of the appeal may be submitted directly to the Appellate Author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228240" y="152280"/>
            <a:ext cx="8458200" cy="68580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35 – Withholding of appeals – does not comply with the provisions of Rule 33, not submitted within time limit, repetition of appeal already decided and no new facts Provided that an appeal withheld under this sub-rule shall be returned to the appellant and if resubmitted within one month thereof after complying with the provisions of Rule 33 shall not be withheld.  Quarterly statement on list of appeals withheld to be submitted to the Appellate Authorit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Rule 36 – Transmission of Appeals – The authority which made the order shall forward the same to the Appellate Authority</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37 – Consideration of Appeals - All appeals should be disposed of as expeditiously as possible and in any event not later than 6 months from the date of receipt of the appeal by the Appellate Authorit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Rule 38 – Appeal against other orders – Order passed which denies disadvantage to his salary, stopping an employee in efficiency bar in time scale, determining salary and allowances during suspension, etc</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800" spc="-1" strike="noStrike">
                <a:solidFill>
                  <a:srgbClr val="548235"/>
                </a:solidFill>
                <a:latin typeface="Calibri"/>
              </a:rPr>
              <a:t>Rig</a:t>
            </a:r>
            <a:r>
              <a:rPr b="1" i="1" lang="en-US" sz="2000" spc="-1" strike="noStrike">
                <a:solidFill>
                  <a:srgbClr val="548235"/>
                </a:solidFill>
                <a:latin typeface="Calibri"/>
              </a:rPr>
              <a:t>or effect – one year for minor penalties and two years for major penalties. Censure no rigor effec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228600" y="152280"/>
            <a:ext cx="8686800" cy="64771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39 – Review –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mpany at its own motion or otherwise after calling for the records review any order which is made or is appeal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nfirm, modify or set aside the order</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mit the case to any authority to any office</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mpose penaltie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40 – Memorial – Appeal rejected, may address to the appropriate memorial authority within a period of six months from the date of receipt of copy of order of appellate authority</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41 – Canvassing non-official or outside influence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42 – Interpretation - Boar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43 – Amendments – Boar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44 – Authority to issue administrative instructions  - CMD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Timelines at a glance</a:t>
            </a:r>
            <a:endParaRPr b="0" lang="en-US" sz="3300" spc="-1" strike="noStrike">
              <a:solidFill>
                <a:srgbClr val="000000"/>
              </a:solidFill>
              <a:latin typeface="Calibri Light"/>
            </a:endParaRPr>
          </a:p>
        </p:txBody>
      </p:sp>
      <p:sp>
        <p:nvSpPr>
          <p:cNvPr id="78" name=""/>
          <p:cNvSpPr txBox="1"/>
          <p:nvPr/>
        </p:nvSpPr>
        <p:spPr>
          <a:xfrm>
            <a:off x="457200" y="1295280"/>
            <a:ext cx="8229600" cy="51818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hargesheet – By Disciplinary Authority – within 15 days employee has to reply on the articles of charges – Max 45 day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nquiry Report – Within a period of 6 months from the date of appointment of Inquiry Officer (maximum one more month can be taken if required – As per CVC Guideline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ppeal – Within 3 months from the date of receipt of penalty.  Can withhold appeal but resubmitted within one month has to be forwarded to Appellate Authority.  Appeal to be disposed off within 6 month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emorial – Within 6 months from the date of receipt of appeal order</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9" name=""/>
          <p:cNvGraphicFramePr/>
          <p:nvPr/>
        </p:nvGraphicFramePr>
        <p:xfrm>
          <a:off x="152280" y="228600"/>
          <a:ext cx="8763120" cy="7089840"/>
        </p:xfrm>
        <a:graphic>
          <a:graphicData uri="http://schemas.openxmlformats.org/drawingml/2006/table">
            <a:tbl>
              <a:tblPr/>
              <a:tblGrid>
                <a:gridCol w="2248200"/>
                <a:gridCol w="1549080"/>
                <a:gridCol w="1395720"/>
                <a:gridCol w="2168280"/>
                <a:gridCol w="1401840"/>
              </a:tblGrid>
              <a:tr h="5176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Category of Employees/</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Officer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Appointing</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Author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Disciplinary</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Author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Appellate</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Author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Memorial</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Author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801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ub-Staff/Driver &amp; Equiv.</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adre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I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in Scale-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8017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Record Clerk/ Assistant &amp;</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Equiv. Cadre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I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I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in Scale-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2812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r. Assistant &amp; Equiv. Cadres / Superintendent / Development</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Office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I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in Scale-V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5634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For Officers in Scale I &amp; Scale 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V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in Scale-V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5637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For Officers in Scale-I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V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V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in Scale-V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8017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Officers in Scale-IV &amp; 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V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in Scale-V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M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Board Sub-</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ommittee</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H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7589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Officers in Scale- VI</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Officers in Scale V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enior most General Manager &amp; Director</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Board Sub-Committee (H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Board Sub-Committee (HR)</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Boar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Light"/>
              </a:rPr>
              <a:t>PROMOTION POLICY FOR OFFICERS 2006</a:t>
            </a:r>
            <a:endParaRPr b="0" lang="en-US" sz="2800" spc="-1" strike="noStrike">
              <a:solidFill>
                <a:srgbClr val="000000"/>
              </a:solidFill>
              <a:latin typeface="Calibri Light"/>
            </a:endParaRPr>
          </a:p>
        </p:txBody>
      </p:sp>
      <p:sp>
        <p:nvSpPr>
          <p:cNvPr id="81"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Applicability – Applicable to promotion of officers up to the cadre of Scale VII </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Scale V to VI and Scale VI to VII – shall be within GIPSA Companies, common seniority</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Up to Scale V – Within company</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Scale VI and VII – shall be on merit, 3 times the no. of vacancies subject to a maximum of 4 times</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Up to Scale V – merit and seniority</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Eligibility for promotion to Scale VI and VII – should have completed minimum 2 full years and for promotions up to Scale V, should have completed minimum of 3 full years of service</a:t>
            </a:r>
            <a:endParaRPr b="0" lang="en-US" sz="22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380520"/>
            <a:ext cx="8229600" cy="57150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Para 22B – If the ZOC falls short of 4.5 times (Scale V promotion) or 3.5 times (Scale IV promotion), then Officers who have completed minimum 2 years in the respective cadre shall be included to the extent of ZOC.</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Quota for promotion under Normal and Fast track shall be 60% and 40% respectively</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No Interview for Scale I to II under fast track</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Instance of an Officer refusing promotion under Fast Track Channel shall result in counting of his participation in the Fast Track Channel of promotion and also as an attempt within the limits of </a:t>
            </a:r>
            <a:r>
              <a:rPr b="1" lang="en-US" sz="2200" spc="-1" strike="noStrike">
                <a:solidFill>
                  <a:srgbClr val="000000"/>
                </a:solidFill>
                <a:latin typeface="Calibri"/>
              </a:rPr>
              <a:t>02 </a:t>
            </a:r>
            <a:r>
              <a:rPr b="0" lang="en-US" sz="2200" spc="-1" strike="noStrike">
                <a:solidFill>
                  <a:srgbClr val="000000"/>
                </a:solidFill>
                <a:latin typeface="Calibri"/>
              </a:rPr>
              <a:t>attempts notwithstanding his having qualified in the Written Test.</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Golden Gate Scheme – Officers up to Scale IV eligible if another Officer superseded in promotion  for the 3 consecutive Promotion Exercises</a:t>
            </a:r>
            <a:r>
              <a:rPr b="0" lang="en-US" sz="2400" spc="-1" strike="noStrike">
                <a:solidFill>
                  <a:srgbClr val="000000"/>
                </a:solidFill>
                <a:latin typeface="Calibri"/>
              </a:rPr>
              <a:t>  (Golden Gate will be opened for a specific period only)</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83" name="Rectangle 1"/>
          <p:cNvSpPr/>
          <p:nvPr/>
        </p:nvSpPr>
        <p:spPr>
          <a:xfrm>
            <a:off x="533520" y="457200"/>
            <a:ext cx="8076960" cy="121932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86" name="Picture 2" descr=""/>
          <p:cNvPicPr/>
          <p:nvPr/>
        </p:nvPicPr>
        <p:blipFill>
          <a:blip r:embed="rId1"/>
          <a:stretch/>
        </p:blipFill>
        <p:spPr>
          <a:xfrm>
            <a:off x="214200" y="0"/>
            <a:ext cx="7939080" cy="6172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5" descr=""/>
          <p:cNvPicPr/>
          <p:nvPr/>
        </p:nvPicPr>
        <p:blipFill>
          <a:blip r:embed="rId1"/>
          <a:stretch/>
        </p:blipFill>
        <p:spPr>
          <a:xfrm>
            <a:off x="762120" y="533520"/>
            <a:ext cx="7315200" cy="5638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60948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Calibri Light"/>
              </a:rPr>
              <a:t>UNITED INDIA INSURANCE COMPANY (CDA) RULES, 2014</a:t>
            </a:r>
            <a:endParaRPr b="0" lang="en-US" sz="3000" spc="-1" strike="noStrike">
              <a:solidFill>
                <a:srgbClr val="000000"/>
              </a:solidFill>
              <a:latin typeface="Calibri Light"/>
            </a:endParaRPr>
          </a:p>
        </p:txBody>
      </p:sp>
      <p:sp>
        <p:nvSpPr>
          <p:cNvPr id="55" name="PlaceHolder 2"/>
          <p:cNvSpPr>
            <a:spLocks noGrp="1"/>
          </p:cNvSpPr>
          <p:nvPr>
            <p:ph type="subTitle"/>
          </p:nvPr>
        </p:nvSpPr>
        <p:spPr>
          <a:xfrm>
            <a:off x="380520" y="1066320"/>
            <a:ext cx="8610840" cy="4953240"/>
          </a:xfrm>
          <a:prstGeom prst="rect">
            <a:avLst/>
          </a:prstGeom>
          <a:noFill/>
          <a:ln w="0">
            <a:noFill/>
          </a:ln>
        </p:spPr>
        <p:txBody>
          <a:bodyPr anchor="t">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IMPORTANT ASPECTS</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DA – Conduct, Discipline &amp; Appeal</a:t>
            </a:r>
            <a:endParaRPr b="0" lang="en-US" sz="24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ntroduction of Board Sub-committee (HR) as Appellate and Memorial Authorities</a:t>
            </a:r>
            <a:endParaRPr b="0" lang="en-US" sz="24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Limit of acceptance of gifts from relatives – Rs.10000, personal friend – Rs.7000 and other cases Rs.5000.</a:t>
            </a:r>
            <a:endParaRPr b="0" lang="en-US" sz="24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view of suspension orders once in 3 month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151920" y="-360"/>
            <a:ext cx="8534520" cy="67057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Zone of consideration</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Note : Eligible Officers in same batch will be considered, even if the total no. exceeds the above proportion.  Continuous service means period of duty excluding period on extraordinary leav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ara 9 – Qualifying benchmark</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9.1 Scale VI and Scale VII – screening interview by Screening Committee comprising of 4 or 5 outside expert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9.2  Up to Scale V – No written test  under Normal Channel.</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For fast track – 60 (54 for SC/ST Category)</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For Fast track - No. of vacancies – 40% of total vacancies or 1.5 times the number of passed candidates (16</a:t>
            </a:r>
            <a:r>
              <a:rPr b="0" lang="en-US" sz="2400" spc="-1" strike="noStrike" baseline="30000">
                <a:solidFill>
                  <a:srgbClr val="000000"/>
                </a:solidFill>
                <a:latin typeface="Calibri"/>
              </a:rPr>
              <a:t>th</a:t>
            </a:r>
            <a:r>
              <a:rPr b="0" lang="en-US" sz="2400" spc="-1" strike="noStrike">
                <a:solidFill>
                  <a:srgbClr val="000000"/>
                </a:solidFill>
                <a:latin typeface="Calibri"/>
              </a:rPr>
              <a:t> Amendmen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nter-se seniority – 0.01 marks adde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89" name=""/>
          <p:cNvGraphicFramePr/>
          <p:nvPr/>
        </p:nvGraphicFramePr>
        <p:xfrm>
          <a:off x="1447920" y="609480"/>
          <a:ext cx="6095880" cy="1381320"/>
        </p:xfrm>
        <a:graphic>
          <a:graphicData uri="http://schemas.openxmlformats.org/drawingml/2006/table">
            <a:tbl>
              <a:tblPr/>
              <a:tblGrid>
                <a:gridCol w="3047760"/>
                <a:gridCol w="3048120"/>
              </a:tblGrid>
              <a:tr h="370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For promotion to Scale 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5 times the no. of vacanc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711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For promotion to Scale I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 times the no. of vacanc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6404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For promotion to Scale III and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 times the no. of vacanc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6120"/>
            <a:ext cx="8305920" cy="65466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nking List</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Under Normal Channel – Based on seniority, qualification, work record and interview (wherever applicable)</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4C - Reserve List – No. of Employees considered for promotion upto 31</a:t>
            </a:r>
            <a:r>
              <a:rPr b="0" lang="en-US" sz="1800" spc="-1" strike="noStrike" baseline="30000">
                <a:solidFill>
                  <a:srgbClr val="000000"/>
                </a:solidFill>
                <a:latin typeface="Calibri"/>
              </a:rPr>
              <a:t>st</a:t>
            </a:r>
            <a:r>
              <a:rPr b="0" lang="en-US" sz="1800" spc="-1" strike="noStrike">
                <a:solidFill>
                  <a:srgbClr val="000000"/>
                </a:solidFill>
                <a:latin typeface="Calibri"/>
              </a:rPr>
              <a:t> March of the financial year</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ontingency List – 10% of vacancies</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Promoting Authority – Scale VII and VI – CMD, Scale V and IV – GM and Scale III and II – DGM</a:t>
            </a:r>
            <a:endParaRPr b="0" lang="en-US" sz="18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on-acceptance of promotion – Refusal waiting period of next one promotion exercise (Promotion Committee is the Competent Authority for such cases)</a:t>
            </a:r>
            <a:endParaRPr b="0" lang="en-US" sz="18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pting out – once in each cadre  (for Scale VI and VII)</a:t>
            </a:r>
            <a:endParaRPr b="0" lang="en-US" sz="18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6</a:t>
            </a:r>
            <a:r>
              <a:rPr b="0" lang="en-US" sz="1800" spc="-1" strike="noStrike" baseline="30000">
                <a:solidFill>
                  <a:srgbClr val="000000"/>
                </a:solidFill>
                <a:latin typeface="Calibri"/>
              </a:rPr>
              <a:t>th</a:t>
            </a:r>
            <a:r>
              <a:rPr b="0" lang="en-US" sz="1800" spc="-1" strike="noStrike">
                <a:solidFill>
                  <a:srgbClr val="000000"/>
                </a:solidFill>
                <a:latin typeface="Calibri"/>
              </a:rPr>
              <a:t> Amendment allows opting out for two times upto Scale V also)</a:t>
            </a:r>
            <a:endParaRPr b="0" lang="en-US" sz="18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rPr>
              <a:t>22 A Special Dispensation when post of CMD is vacant / Leave of Absence is accorded to CMD:</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otwithstanding anything contained in the Policy, in the circumstances when post of CMD is vacant / Leave of Absence is accorded to CMD, the authority vested in and the functions to be discharged by the CMD for promotion of Officers up to Scale VI shall be vested in and discharged by the senior most Whole Time Director of the Compan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16</a:t>
            </a:r>
            <a:r>
              <a:rPr b="0" lang="en-US" sz="3300" spc="-1" strike="noStrike" baseline="30000">
                <a:solidFill>
                  <a:srgbClr val="000000"/>
                </a:solidFill>
                <a:latin typeface="Calibri Light"/>
              </a:rPr>
              <a:t>th</a:t>
            </a:r>
            <a:r>
              <a:rPr b="0" lang="en-US" sz="3300" spc="-1" strike="noStrike">
                <a:solidFill>
                  <a:srgbClr val="000000"/>
                </a:solidFill>
                <a:latin typeface="Calibri Light"/>
              </a:rPr>
              <a:t> AMENDMENT</a:t>
            </a:r>
            <a:endParaRPr b="0" lang="en-US" sz="3300" spc="-1" strike="noStrike">
              <a:solidFill>
                <a:srgbClr val="000000"/>
              </a:solidFill>
              <a:latin typeface="Calibri Light"/>
            </a:endParaRPr>
          </a:p>
        </p:txBody>
      </p:sp>
      <p:sp>
        <p:nvSpPr>
          <p:cNvPr id="92" name=""/>
          <p:cNvSpPr txBox="1"/>
          <p:nvPr/>
        </p:nvSpPr>
        <p:spPr>
          <a:xfrm>
            <a:off x="628560" y="1825200"/>
            <a:ext cx="7886880" cy="435132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Para 8 – Eligibility and Zone of consideration</a:t>
            </a:r>
            <a:endParaRPr b="0" lang="en-US" sz="2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8.3 – Opt out from promotion process – Officers eligible can opt out from the Prom. Ex. For promotion upto Scale V twice in each cadre within 14 days from the date of declaration. No substitution or further inclusion shall be made.  Opting out - Twice in one cadre.</a:t>
            </a:r>
            <a:endParaRPr b="0" lang="en-US" sz="2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Para 14A – Fast Track Promotion – Earlier twice the number has been reduced to 1.5 times. 0.33 to be ignored (passed cand./ 1.5) This is not applicable to Scale I to II promo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18</a:t>
            </a:r>
            <a:r>
              <a:rPr b="0" lang="en-US" sz="3300" spc="-1" strike="noStrike" baseline="30000">
                <a:solidFill>
                  <a:srgbClr val="000000"/>
                </a:solidFill>
                <a:latin typeface="Calibri Light"/>
              </a:rPr>
              <a:t>th</a:t>
            </a:r>
            <a:r>
              <a:rPr b="0" lang="en-US" sz="3300" spc="-1" strike="noStrike">
                <a:solidFill>
                  <a:srgbClr val="000000"/>
                </a:solidFill>
                <a:latin typeface="Calibri Light"/>
              </a:rPr>
              <a:t> Amendment</a:t>
            </a:r>
            <a:endParaRPr b="0" lang="en-US" sz="3300" spc="-1" strike="noStrike">
              <a:solidFill>
                <a:srgbClr val="000000"/>
              </a:solidFill>
              <a:latin typeface="Calibri Light"/>
            </a:endParaRPr>
          </a:p>
        </p:txBody>
      </p:sp>
      <p:sp>
        <p:nvSpPr>
          <p:cNvPr id="94"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n-situ promotions removed for Scale VI &amp; VII promotion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22D – Spl dispensation for prom to Scale VII – Officer should have completed one and half years in the existing scale as on 1</a:t>
            </a:r>
            <a:r>
              <a:rPr b="0" lang="en-US" sz="2100" spc="-1" strike="noStrike" baseline="30000">
                <a:solidFill>
                  <a:srgbClr val="000000"/>
                </a:solidFill>
                <a:latin typeface="Calibri"/>
              </a:rPr>
              <a:t>st</a:t>
            </a:r>
            <a:r>
              <a:rPr b="0" lang="en-US" sz="2100" spc="-1" strike="noStrike">
                <a:solidFill>
                  <a:srgbClr val="000000"/>
                </a:solidFill>
                <a:latin typeface="Calibri"/>
              </a:rPr>
              <a:t> of April and should have min. 2 full years of balance service.  3 times the no. of vacancies (For 2023-24 Prom Ex only)</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19</a:t>
            </a:r>
            <a:r>
              <a:rPr b="0" lang="en-US" sz="3300" spc="-1" strike="noStrike" baseline="30000">
                <a:solidFill>
                  <a:srgbClr val="000000"/>
                </a:solidFill>
                <a:latin typeface="Calibri Light"/>
              </a:rPr>
              <a:t>th</a:t>
            </a:r>
            <a:r>
              <a:rPr b="0" lang="en-US" sz="3300" spc="-1" strike="noStrike">
                <a:solidFill>
                  <a:srgbClr val="000000"/>
                </a:solidFill>
                <a:latin typeface="Calibri Light"/>
              </a:rPr>
              <a:t> Amendment</a:t>
            </a:r>
            <a:endParaRPr b="0" lang="en-US" sz="3300" spc="-1" strike="noStrike">
              <a:solidFill>
                <a:srgbClr val="000000"/>
              </a:solidFill>
              <a:latin typeface="Calibri Light"/>
            </a:endParaRPr>
          </a:p>
        </p:txBody>
      </p:sp>
      <p:sp>
        <p:nvSpPr>
          <p:cNvPr id="9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New Para 22E</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nnual APAR (special APAR) means April to September for those who are eligible under ZOC and regular APAR year will continue</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Calibri Light"/>
              </a:rPr>
              <a:t>Promotion Policy for SCS Staff, 2008</a:t>
            </a:r>
            <a:endParaRPr b="0" lang="en-US" sz="4000" spc="-1" strike="noStrike">
              <a:solidFill>
                <a:srgbClr val="000000"/>
              </a:solidFill>
              <a:latin typeface="Calibri Light"/>
            </a:endParaRPr>
          </a:p>
        </p:txBody>
      </p:sp>
      <p:sp>
        <p:nvSpPr>
          <p:cNvPr id="98" name=""/>
          <p:cNvSpPr txBox="1"/>
          <p:nvPr/>
        </p:nvSpPr>
        <p:spPr>
          <a:xfrm>
            <a:off x="457200" y="837720"/>
            <a:ext cx="8229600" cy="52880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motional cadres – Scale I (Para 13.1 &amp; 13.2), Sr.Asst (Para 14 &amp; Para 25A) and Assistant (Para 15)</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servation – SC – 15%, ST – 7.5%, PwBd – 4% for Asst, Sr.Asst and AO promotion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cale I – 50% each for Para 13.1 &amp; 13.2, probation 1 year, 4 zones, Promoting Authority – Scale VI</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r.Asst – 16 zones, Promoting Authority – Scale V</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anels – 5 times the number of vacancies for each category</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For 13.2, marks obtained in examination is reduced to 35 percent apart from seniority and qualification mark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52280"/>
            <a:ext cx="8229600" cy="59738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ligibility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Scale I – 13.1 – 7 years, 5 years with LIII, 3 years with AIII and immediate with FIII/Graduation in Engg or MBA</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cale I – 13.2 – Graduation or FIII (AIII for SC/ST), ICWAI, ICAI, ACS, MBA – No. of attempts 4 (5 for SC/ST),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inimum passing marks 60% (50% for SC/S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r.Asst. - 7 years, 5 years with LIII, 3 years with AIII and immediate with FIII or reached ceiling</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sst – Eligible for direct recruitment of Asst., matriculate with 10 years, passed departmental test or RC with 5 years.  Service rendered as PTE will also be counted as per their hours of work and passed computer literacy tes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ut-off date for qualification – Date of publication of Notice declaring vacanc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228240"/>
            <a:ext cx="8229600" cy="6248520"/>
          </a:xfrm>
          <a:prstGeom prst="rect">
            <a:avLst/>
          </a:prstGeom>
          <a:noFill/>
          <a:ln w="0">
            <a:noFill/>
          </a:ln>
        </p:spPr>
        <p:txBody>
          <a:bodyPr anchor="t">
            <a:normAutofit fontScale="98000"/>
          </a:bodyPr>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eightage</a:t>
            </a:r>
            <a:endParaRPr b="0" lang="en-US" sz="2400" spc="-1" strike="noStrike">
              <a:solidFill>
                <a:srgbClr val="000000"/>
              </a:solidFill>
              <a:latin typeface="Calibri"/>
            </a:endParaRPr>
          </a:p>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67760" indent="-1677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niority – 2 marks for every year</a:t>
            </a:r>
            <a:endParaRPr b="0" lang="en-US" sz="2400" spc="-1" strike="noStrike">
              <a:solidFill>
                <a:srgbClr val="000000"/>
              </a:solidFill>
              <a:latin typeface="Calibri"/>
            </a:endParaRPr>
          </a:p>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Qualification – Academic and Technical</a:t>
            </a:r>
            <a:endParaRPr b="0" lang="en-US" sz="2400" spc="-1" strike="noStrike">
              <a:solidFill>
                <a:srgbClr val="000000"/>
              </a:solidFill>
              <a:latin typeface="Calibri"/>
            </a:endParaRPr>
          </a:p>
          <a:p>
            <a:pPr marL="167760" indent="-1677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cademic – SSC – 5, HSC – 7, Degree – 12, PG – 15, Double degree – 15</a:t>
            </a:r>
            <a:endParaRPr b="0" lang="en-US" sz="2400" spc="-1" strike="noStrike">
              <a:solidFill>
                <a:srgbClr val="000000"/>
              </a:solidFill>
              <a:latin typeface="Calibri"/>
            </a:endParaRPr>
          </a:p>
          <a:p>
            <a:pPr marL="167760" indent="-1677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echnical – LIII, MBA – 5, AIII – 10, FIII, MCA, ICAI, ACS, ICWAI – 15</a:t>
            </a:r>
            <a:endParaRPr b="0" lang="en-US" sz="2400" spc="-1" strike="noStrike">
              <a:solidFill>
                <a:srgbClr val="000000"/>
              </a:solidFill>
              <a:latin typeface="Calibri"/>
            </a:endParaRPr>
          </a:p>
          <a:p>
            <a:pPr marL="167760" indent="-1677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Para 25 – ACPS – ASSURED CAREER PROGRESSION SCEHEME (Running Scale)</a:t>
            </a:r>
            <a:endParaRPr b="0" lang="en-US" sz="2000" spc="-1" strike="noStrike">
              <a:solidFill>
                <a:srgbClr val="000000"/>
              </a:solidFill>
              <a:latin typeface="Calibri"/>
            </a:endParaRPr>
          </a:p>
          <a:p>
            <a:pPr marL="167760" indent="-1677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PARA 25A – Spl. Provision for one promotion in life time for Assistants – 20 years of service and 50 completed years of age</a:t>
            </a:r>
            <a:endParaRPr b="0" lang="en-US" sz="2000" spc="-1" strike="noStrike">
              <a:solidFill>
                <a:srgbClr val="000000"/>
              </a:solidFill>
              <a:latin typeface="Calibri"/>
            </a:endParaRPr>
          </a:p>
          <a:p>
            <a:pPr marL="167760" indent="-1677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STAGNATION TO STAGNATION STAGE FIXATION ALLOWED WEF 01/04/2023</a:t>
            </a:r>
            <a:endParaRPr b="0" lang="en-US" sz="2000" spc="-1" strike="noStrike">
              <a:solidFill>
                <a:srgbClr val="000000"/>
              </a:solidFill>
              <a:latin typeface="Calibri"/>
            </a:endParaRPr>
          </a:p>
        </p:txBody>
      </p:sp>
      <p:graphicFrame>
        <p:nvGraphicFramePr>
          <p:cNvPr id="101" name=""/>
          <p:cNvGraphicFramePr/>
          <p:nvPr/>
        </p:nvGraphicFramePr>
        <p:xfrm>
          <a:off x="1523880" y="631800"/>
          <a:ext cx="6096240" cy="2263680"/>
        </p:xfrm>
        <a:graphic>
          <a:graphicData uri="http://schemas.openxmlformats.org/drawingml/2006/table">
            <a:tbl>
              <a:tblPr/>
              <a:tblGrid>
                <a:gridCol w="1524240"/>
                <a:gridCol w="1523880"/>
                <a:gridCol w="1523880"/>
                <a:gridCol w="1524240"/>
              </a:tblGrid>
              <a:tr h="3780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Criter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cale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r.Ass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Assista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762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eniorit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776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Qualific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80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Work Recor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3762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terview</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76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ot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Transfer and Mobility Policy for Officers</a:t>
            </a:r>
            <a:endParaRPr b="0" lang="en-US" sz="3300" spc="-1" strike="noStrike">
              <a:solidFill>
                <a:srgbClr val="000000"/>
              </a:solidFill>
              <a:latin typeface="Calibri Light"/>
            </a:endParaRPr>
          </a:p>
        </p:txBody>
      </p:sp>
      <p:sp>
        <p:nvSpPr>
          <p:cNvPr id="103" name=""/>
          <p:cNvSpPr txBox="1"/>
          <p:nvPr/>
        </p:nvSpPr>
        <p:spPr>
          <a:xfrm>
            <a:off x="456840" y="1600200"/>
            <a:ext cx="8458200" cy="51055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pplicable upto Scale IV</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ormal Period of Posting (NPP) – 5 year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quest transfer – Minimum after 3 years – Maximum 3 request transfers for the entire period of servic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f request transfer is considered after 5 years, it will not be counted as a request  transfer</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ransfer benefits – No transfer benefit within the same city, in case of request transfers no transfer benefit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152280"/>
            <a:ext cx="8229600" cy="59738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Maximum one year exemption may be given with the approval of CMD to an Officer who is handling specialised discipline</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nsitive posts – Claims including Service and TP Hubs, Estate, Administration, Publicity, etc and in-charges of DO/BO declared as sensitive posts as per CVC. Maximum period is 3 years other than in charge.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Period of stay in difficult area reduced from 3 to  2 years, excluding LOP, if any</a:t>
            </a:r>
            <a:endParaRPr b="0" lang="en-US" sz="21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09480" y="1066680"/>
            <a:ext cx="8229600" cy="45259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uspended employee shall not have right for increase in subsistence allowance immediately after 6 month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duction to a lower stage in the time scale for a period not exceeding 3 years included as minor penalt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ording of “Dismissal” under major penalty changed to “Dismissal which shall ordinarily be a disqualification for future employment” under major penalty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vision in schedule of authorities under Schedule A</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6840" y="380880"/>
            <a:ext cx="8381880" cy="60962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inimum period of posting under TMP – Lady Officers up to Scale III transferred on TMP and Promotions may be considered for transfer on request after 2 years.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xemption – 13 major diseases.  Major diseases – Malignant cancer, Leprosy, TB, Paralysis, Brain tumour, CABG/ Heart valve replacement/ Angioplasty (Max 1 year), Chronic kidney disease, AIDS, Mental disease, Total replacement of joints – max 1 year, spinal surgery, disease of liver leading to Hepatic failure or transplantation, Thalassemia Major (breakdown of fragile blood cells and requires continuous lifesaving treatment with blood transfusion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fficers on superannuation – Up to Scale III only. Before 1 year can be considered for transfer to their place of request / home town.</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laxation – Rests with CM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Recruitment Rules for Officers</a:t>
            </a:r>
            <a:endParaRPr b="0" lang="en-US" sz="3300" spc="-1" strike="noStrike">
              <a:solidFill>
                <a:srgbClr val="000000"/>
              </a:solidFill>
              <a:latin typeface="Calibri Light"/>
            </a:endParaRPr>
          </a:p>
        </p:txBody>
      </p:sp>
      <p:sp>
        <p:nvSpPr>
          <p:cNvPr id="107" name=""/>
          <p:cNvSpPr txBox="1"/>
          <p:nvPr/>
        </p:nvSpPr>
        <p:spPr>
          <a:xfrm>
            <a:off x="304560" y="1676520"/>
            <a:ext cx="8381880" cy="533376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ntry Cadre – Scale I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ligibility –  60% in graduation, 55% for SC/ST candidate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ll India Basi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servation for SC – 15%, ST – 7.5%, OBC – 27% (vertical)</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PwBd –  4% (1% each for VH, HH and OH, autism, multiple disabilities), 1% Ex-servicemen, etc (horizontal)</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ge relaxation – UR – Min – 21 years and Max – 30 year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SC/ST – 5 years relaxation, OBC – 3 year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x-servicemen – Max – 40 years for UR, 45 for SC/S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lection – written test and interview</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bation – 1 year</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Recruitment Rules for Assistants</a:t>
            </a:r>
            <a:endParaRPr b="0" lang="en-US" sz="3300" spc="-1" strike="noStrike">
              <a:solidFill>
                <a:srgbClr val="000000"/>
              </a:solidFill>
              <a:latin typeface="Calibri Light"/>
            </a:endParaRPr>
          </a:p>
        </p:txBody>
      </p:sp>
      <p:sp>
        <p:nvSpPr>
          <p:cNvPr id="109" name=""/>
          <p:cNvSpPr txBox="1"/>
          <p:nvPr/>
        </p:nvSpPr>
        <p:spPr>
          <a:xfrm>
            <a:off x="304560" y="1599840"/>
            <a:ext cx="8381880" cy="53341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ntry Cadre – Assistant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ligibility –  Graduation, knowledge of regional languag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tate basi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servation for SC/ST/OBC  – Depending on regional representation (vertical)</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PwBd – 4% (1% each for VH, HH and OH, autism, multiple disabilities), 1% Ex-servicemen, etc (horizontal)</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ge relaxation – UR – Min – 21 years and Max – 30 year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SC/ST – 5 years relaxation, OBC – 3 year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x-servicemen – Max – 40 years for UR, 45 for SC/S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lection – written test, regional language tes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bation – 6 month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Light"/>
              </a:rPr>
              <a:t>1.  ADMINISTRATIVE INSTRUCTIONS ON WAGE REVISION – CLASS I</a:t>
            </a:r>
            <a:endParaRPr b="0" lang="en-US" sz="2800" spc="-1" strike="noStrike">
              <a:solidFill>
                <a:srgbClr val="000000"/>
              </a:solidFill>
              <a:latin typeface="Calibri Light"/>
            </a:endParaRPr>
          </a:p>
        </p:txBody>
      </p:sp>
      <p:sp>
        <p:nvSpPr>
          <p:cNvPr id="111" name="PlaceHolder 2"/>
          <p:cNvSpPr>
            <a:spLocks noGrp="1"/>
          </p:cNvSpPr>
          <p:nvPr>
            <p:ph type="subTitle"/>
          </p:nvPr>
        </p:nvSpPr>
        <p:spPr>
          <a:xfrm>
            <a:off x="380520" y="1218960"/>
            <a:ext cx="8534520" cy="5257800"/>
          </a:xfrm>
          <a:prstGeom prst="rect">
            <a:avLst/>
          </a:prstGeom>
          <a:noFill/>
          <a:ln w="0">
            <a:noFill/>
          </a:ln>
        </p:spPr>
        <p:txBody>
          <a:bodyPr anchor="t">
            <a:noAutofit/>
          </a:bodyPr>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mendment Scheme w.e.f. 01/08/2017 (16</a:t>
            </a:r>
            <a:r>
              <a:rPr b="0" lang="en-US" sz="2400" spc="-1" strike="noStrike" baseline="30000">
                <a:solidFill>
                  <a:srgbClr val="000000"/>
                </a:solidFill>
                <a:latin typeface="Calibri"/>
              </a:rPr>
              <a:t>th</a:t>
            </a:r>
            <a:r>
              <a:rPr b="0" lang="en-US" sz="2400" spc="-1" strike="noStrike">
                <a:solidFill>
                  <a:srgbClr val="000000"/>
                </a:solidFill>
                <a:latin typeface="Calibri"/>
              </a:rPr>
              <a:t> schedule)</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ligible only for existing / retired / VRS / expired Officers during the period from 01/08/2017 (Resigned/terminated not eligible for wage revision)</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fficers who have gone on golden gate scheme only difference in exgratia is payable</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Effective Date : BP, DA, HRA,CCA, TA,  mid-acad, spl. Area, transf. grant, leave encash, PF, New Pen.fund, Gratuity, FPA – 01/08/2017.       HSA, Kit Allowance, Paradeep Port Allowance, func allow, entertainment allowance   - 01/11/2022.</a:t>
            </a:r>
            <a:r>
              <a:rPr b="0" lang="en-US" sz="2400" spc="-1" strike="noStrike">
                <a:solidFill>
                  <a:srgbClr val="000000"/>
                </a:solidFill>
                <a:latin typeface="Calibri"/>
              </a:rPr>
              <a:t>Lumpsum medical – 01/01/2020</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tment on promotion – Within 90 days from the date of publication of administrative instruc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7000" y="75960"/>
            <a:ext cx="9067680" cy="66294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tagnation increments : once in 3 years after reaching ceiling in the scal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xed Personal Allowance (FPA) – The cadre in which an employee was there as on 01/11/1993.  FPA is released one year after reaching maximum of the scale. (Employees joined before 22/06/2000)</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arness Allowance (DA) – All India Consumer Price Index 6352 (base year 1960=100).  Rate of DA – 0.08% of the revised basic pay .  DA revision every quarter – Feb, May, August, November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esently 759 slabs as on 01/11/2024 (60.72%)</a:t>
            </a:r>
            <a:endParaRPr b="0" lang="en-US" sz="2400" spc="-1" strike="noStrike">
              <a:solidFill>
                <a:srgbClr val="000000"/>
              </a:solidFill>
              <a:latin typeface="Calibri"/>
            </a:endParaRPr>
          </a:p>
        </p:txBody>
      </p:sp>
      <p:graphicFrame>
        <p:nvGraphicFramePr>
          <p:cNvPr id="113" name=""/>
          <p:cNvGraphicFramePr/>
          <p:nvPr/>
        </p:nvGraphicFramePr>
        <p:xfrm>
          <a:off x="1523880" y="1371600"/>
          <a:ext cx="3886200" cy="1752480"/>
        </p:xfrm>
        <a:graphic>
          <a:graphicData uri="http://schemas.openxmlformats.org/drawingml/2006/table">
            <a:tbl>
              <a:tblPr/>
              <a:tblGrid>
                <a:gridCol w="1828800"/>
                <a:gridCol w="2057400"/>
              </a:tblGrid>
              <a:tr h="640440">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cal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d18e"/>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No. of Stagnation incremen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d18e"/>
                    </a:solidFill>
                  </a:tcPr>
                </a:tc>
              </a:tr>
              <a:tr h="3715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697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08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51920" y="-152640"/>
            <a:ext cx="9068040" cy="7086600"/>
          </a:xfrm>
          <a:prstGeom prst="rect">
            <a:avLst/>
          </a:prstGeom>
          <a:noFill/>
          <a:ln w="0">
            <a:noFill/>
          </a:ln>
        </p:spPr>
        <p:txBody>
          <a:bodyPr anchor="t">
            <a:noAutofit/>
          </a:bodyPr>
          <a:p>
            <a:pPr marL="3430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House Rent Allowance</a:t>
            </a: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Officers provided leased accommodation – No HRA.  Licence Fee @ 0.50% of minimum basic pay of the revised scale w.e.f 01/11/2022 is deducted.(upto 31/10/22 – pre-revised pay and rate will continue)</a:t>
            </a:r>
            <a:endParaRPr b="0" lang="en-US" sz="24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115" name=""/>
          <p:cNvGraphicFramePr/>
          <p:nvPr/>
        </p:nvGraphicFramePr>
        <p:xfrm>
          <a:off x="533520" y="741240"/>
          <a:ext cx="8076960" cy="4211640"/>
        </p:xfrm>
        <a:graphic>
          <a:graphicData uri="http://schemas.openxmlformats.org/drawingml/2006/table">
            <a:tbl>
              <a:tblPr/>
              <a:tblGrid>
                <a:gridCol w="907920"/>
                <a:gridCol w="4476600"/>
                <a:gridCol w="2692440"/>
              </a:tblGrid>
              <a:tr h="3715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Place of Pos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ate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189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of Mumbai, Navi Mumbai, Kolkata, New</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elhi, Chennai, Ahmedabad, Bengaluru,</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Hyderabad, Pune, Faridabad, Ghaziabad, Noida and Gurga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 of pay subject to maximum of Rs.7840/-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14634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exceeding 12 lacs except</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he cities mentioned at serial number 1, and all</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in the State of Go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8% of pay subject to maximum of Rs.6620/-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1876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ll other plac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 of pay subject to maximum of Rs.6370/-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ubTitle"/>
          </p:nvPr>
        </p:nvSpPr>
        <p:spPr>
          <a:xfrm>
            <a:off x="75960" y="151920"/>
            <a:ext cx="8915400" cy="6629400"/>
          </a:xfrm>
          <a:prstGeom prst="rect">
            <a:avLst/>
          </a:prstGeom>
          <a:noFill/>
          <a:ln w="0">
            <a:noFill/>
          </a:ln>
        </p:spPr>
        <p:txBody>
          <a:bodyPr anchor="t">
            <a:noAutofit/>
          </a:bodyPr>
          <a:p>
            <a:pPr>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y Compensatory Allowance (CCA)</a:t>
            </a:r>
            <a:endParaRPr b="0" lang="en-US" sz="1800" spc="-1" strike="noStrike">
              <a:solidFill>
                <a:srgbClr val="000000"/>
              </a:solidFill>
              <a:latin typeface="Calibri"/>
            </a:endParaRPr>
          </a:p>
          <a:p>
            <a:pPr>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 4 classes viz., Metro, Class A, B &amp; C</a:t>
            </a:r>
            <a:endParaRPr b="0" lang="en-US" sz="1800" spc="-1" strike="noStrike">
              <a:solidFill>
                <a:srgbClr val="000000"/>
              </a:solidFill>
              <a:latin typeface="Calibri"/>
            </a:endParaRPr>
          </a:p>
        </p:txBody>
      </p:sp>
      <p:graphicFrame>
        <p:nvGraphicFramePr>
          <p:cNvPr id="117" name=""/>
          <p:cNvGraphicFramePr/>
          <p:nvPr/>
        </p:nvGraphicFramePr>
        <p:xfrm>
          <a:off x="380880" y="1371600"/>
          <a:ext cx="8534520" cy="4876920"/>
        </p:xfrm>
        <a:graphic>
          <a:graphicData uri="http://schemas.openxmlformats.org/drawingml/2006/table">
            <a:tbl>
              <a:tblPr/>
              <a:tblGrid>
                <a:gridCol w="960480"/>
                <a:gridCol w="5135760"/>
                <a:gridCol w="2438280"/>
              </a:tblGrid>
              <a:tr h="5079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Clas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Place of Pos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2873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tr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of Mumbai, Navi Mumbai, Kolkat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ew Delhi, Chennai, Ahmedabad, Bengaluru,</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Hyderabad, Pune, Faridabad, Ghaziabad, Noid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nd Gurga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 of pay subject to a maximum of Rs.1960/-</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10447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exceeding 12</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lacs, except cities mentioned in serial number 1,</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nd all cities in the State of Go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 of pay subject to a maximum of Rs.1,86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5289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of 5 lacs and</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bove but not exceeding 12 lacs, State capital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with population not exceeding 12 lac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1800" spc="-1" strike="noStrike">
                          <a:solidFill>
                            <a:srgbClr val="000000"/>
                          </a:solidFill>
                          <a:latin typeface="Calibri"/>
                        </a:rPr>
                        <a:t>Chandigarh, Mohali, Panchkula, Pondicherry, Port</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lai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pay subject to a maximum of Rs.1445/-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5079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ll other C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i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151920"/>
            <a:ext cx="8229600" cy="67057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xed Personal Allowance (FPA)</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ef 01/08/2012, the entire amount of FPA shall reckon as basic pay for the purpose of HRA, PF, Pension, Gratuity and encashment of earned leave (Will not count for DA)</a:t>
            </a:r>
            <a:endParaRPr b="0" lang="en-US" sz="2400" spc="-1" strike="noStrike">
              <a:solidFill>
                <a:srgbClr val="000000"/>
              </a:solidFill>
              <a:latin typeface="Calibri"/>
            </a:endParaRPr>
          </a:p>
        </p:txBody>
      </p:sp>
      <p:graphicFrame>
        <p:nvGraphicFramePr>
          <p:cNvPr id="119" name=""/>
          <p:cNvGraphicFramePr/>
          <p:nvPr/>
        </p:nvGraphicFramePr>
        <p:xfrm>
          <a:off x="914400" y="838080"/>
          <a:ext cx="7086600" cy="3998880"/>
        </p:xfrm>
        <a:graphic>
          <a:graphicData uri="http://schemas.openxmlformats.org/drawingml/2006/table">
            <a:tbl>
              <a:tblPr/>
              <a:tblGrid>
                <a:gridCol w="762120"/>
                <a:gridCol w="3962160"/>
                <a:gridCol w="2362320"/>
              </a:tblGrid>
              <a:tr h="9144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Officers in the scale of pay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as on 1.11.199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evised Fixed Personal Allowance (FP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441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V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507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4399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V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17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441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0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4395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57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441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57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4399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71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4410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71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52280" y="151920"/>
            <a:ext cx="8763120" cy="6629400"/>
          </a:xfrm>
          <a:prstGeom prst="rect">
            <a:avLst/>
          </a:prstGeom>
          <a:noFill/>
          <a:ln w="0">
            <a:noFill/>
          </a:ln>
        </p:spPr>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ransport Allowance – Rs.1960 per month</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nveyance Allowance for PwD – Rs.400 per month</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vident Fund –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Officers appointed before 01/01/2004 -10% of basic pay</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ncludes FPA also)</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Officers joined between 01/01/2004  - 10% of basic pay</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and 31/03/2010 (includes FPA also)</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Officers joined  after                              - No recovery towards PF</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31/03/2010                                         Covered under NPS</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NATIONAL PENSION</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SYSTEM)- 10% of BP+DA</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Box 1"/>
          <p:cNvSpPr/>
          <p:nvPr/>
        </p:nvSpPr>
        <p:spPr>
          <a:xfrm>
            <a:off x="228600" y="152280"/>
            <a:ext cx="8001000" cy="173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ll Station Allowance (HSA)</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22" name=""/>
          <p:cNvGraphicFramePr/>
          <p:nvPr/>
        </p:nvGraphicFramePr>
        <p:xfrm>
          <a:off x="1066680" y="685800"/>
          <a:ext cx="7086600" cy="5029200"/>
        </p:xfrm>
        <a:graphic>
          <a:graphicData uri="http://schemas.openxmlformats.org/drawingml/2006/table">
            <a:tbl>
              <a:tblPr/>
              <a:tblGrid>
                <a:gridCol w="797040"/>
                <a:gridCol w="3394080"/>
                <a:gridCol w="2895480"/>
              </a:tblGrid>
              <a:tr h="6426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S.No.</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Height of Place of posting</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Above Mean Sea Leve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Rate</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9169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1</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500 meters and o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 of the Basic Salary subject to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245/-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201420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2</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00 meters and over but less than 1500 meter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rcara and places which are specifically</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eclared as "Hill Stations" by Central/ State</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Governments for their employe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the Basic Salary subject to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00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4655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3</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ot less than 750 meters and surrounded by and</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ccessible only through hills with a height of 1000</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ters and o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Basic Salary subject to a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00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
        <p:nvSpPr>
          <p:cNvPr id="123" name="TextBox 3"/>
          <p:cNvSpPr/>
          <p:nvPr/>
        </p:nvSpPr>
        <p:spPr>
          <a:xfrm>
            <a:off x="380880" y="5791320"/>
            <a:ext cx="76201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Kit Allowance : Rs.9000/-</a:t>
            </a:r>
            <a:endParaRPr b="0" lang="en-US" sz="1800" spc="-1" strike="noStrike">
              <a:solidFill>
                <a:srgbClr val="000000"/>
              </a:solidFill>
              <a:latin typeface="Calibri"/>
            </a:endParaRPr>
          </a:p>
        </p:txBody>
      </p:sp>
      <p:sp>
        <p:nvSpPr>
          <p:cNvPr id="124" name="TextBox 4"/>
          <p:cNvSpPr/>
          <p:nvPr/>
        </p:nvSpPr>
        <p:spPr>
          <a:xfrm>
            <a:off x="380880" y="6248520"/>
            <a:ext cx="7315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aradeep Port Allowance : Rs.265 pm (Not treated as B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DA RULES – In detail</a:t>
            </a:r>
            <a:endParaRPr b="0" lang="en-US" sz="3300" spc="-1" strike="noStrike">
              <a:solidFill>
                <a:srgbClr val="000000"/>
              </a:solidFill>
              <a:latin typeface="Calibri Light"/>
            </a:endParaRPr>
          </a:p>
        </p:txBody>
      </p:sp>
      <p:sp>
        <p:nvSpPr>
          <p:cNvPr id="58" name=""/>
          <p:cNvSpPr txBox="1"/>
          <p:nvPr/>
        </p:nvSpPr>
        <p:spPr>
          <a:xfrm>
            <a:off x="628560" y="1825200"/>
            <a:ext cx="7886880" cy="435132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is rule is applicable to all employees appointed in UIIC or in NIA, NIC, OIC, GIC and AICIL.</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is rule is also applicable to persons governed by General Insurance (Employees’) Pension Scheme, 1995 and amendments thereto to the extend provided under the said Scheme</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 – Definitions</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ct – General Insurance Business (Nationalisation) Act, 1972 and subsequent amendments thereto</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mpetent Authority – Ordinarily means superior authority to whom the employee repor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ubTitle"/>
          </p:nvPr>
        </p:nvSpPr>
        <p:spPr>
          <a:xfrm>
            <a:off x="533520" y="228600"/>
            <a:ext cx="8229600" cy="6324480"/>
          </a:xfrm>
          <a:prstGeom prst="rect">
            <a:avLst/>
          </a:prstGeom>
          <a:noFill/>
          <a:ln w="0">
            <a:noFill/>
          </a:ln>
        </p:spPr>
        <p:txBody>
          <a:bodyPr anchor="t">
            <a:noAutofit/>
          </a:bodyPr>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Lumpsum medical benefit (Basic Pay as on 1</a:t>
            </a:r>
            <a:r>
              <a:rPr b="1" lang="en-US" sz="2400" spc="-1" strike="noStrike" baseline="30000">
                <a:solidFill>
                  <a:srgbClr val="000000"/>
                </a:solidFill>
                <a:latin typeface="Calibri"/>
              </a:rPr>
              <a:t>st</a:t>
            </a:r>
            <a:r>
              <a:rPr b="1" lang="en-US" sz="2400" spc="-1" strike="noStrike">
                <a:solidFill>
                  <a:srgbClr val="000000"/>
                </a:solidFill>
                <a:latin typeface="Calibri"/>
              </a:rPr>
              <a:t> Jan) – </a:t>
            </a:r>
            <a:endParaRPr b="0" lang="en-US" sz="2400" spc="-1" strike="noStrike">
              <a:solidFill>
                <a:srgbClr val="000000"/>
              </a:solidFill>
              <a:latin typeface="Calibri"/>
            </a:endParaRPr>
          </a:p>
          <a:p>
            <a:pPr marL="457200" indent="-4572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          </a:t>
            </a:r>
            <a:r>
              <a:rPr b="1" lang="en-US" sz="2400" spc="-1" strike="noStrike">
                <a:solidFill>
                  <a:srgbClr val="000000"/>
                </a:solidFill>
                <a:latin typeface="Calibri"/>
              </a:rPr>
              <a:t>Basic Pay upto Rs.91345/-    - Rs.19600/-</a:t>
            </a:r>
            <a:endParaRPr b="0" lang="en-US" sz="2400" spc="-1" strike="noStrike">
              <a:solidFill>
                <a:srgbClr val="000000"/>
              </a:solidFill>
              <a:latin typeface="Calibri"/>
            </a:endParaRPr>
          </a:p>
          <a:p>
            <a:pPr marL="457200" indent="-4572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          </a:t>
            </a:r>
            <a:r>
              <a:rPr b="1" lang="en-US" sz="2400" spc="-1" strike="noStrike">
                <a:solidFill>
                  <a:srgbClr val="000000"/>
                </a:solidFill>
                <a:latin typeface="Calibri"/>
              </a:rPr>
              <a:t>Above Basic Pay Rs.91345/- - Rs.29400/-</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Mid-academic year allowance – Rs.1625/-</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Non-practicing allowance for Doctors – 25% of the BP subject to the condition that BP+NPA does not exceed ultimate BP of Scale IV – This provision has been amended</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Functional Allowance to Officers – Rs.1625/-</a:t>
            </a:r>
            <a:endParaRPr b="0" lang="en-US" sz="2400" spc="-1" strike="noStrike">
              <a:solidFill>
                <a:srgbClr val="000000"/>
              </a:solidFill>
              <a:latin typeface="Calibri"/>
            </a:endParaRPr>
          </a:p>
          <a:p>
            <a:pPr marL="457200" indent="-4572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IAI &amp; Vigilance)</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ntertainment Allowance –</a:t>
            </a:r>
            <a:endParaRPr b="0" lang="en-US" sz="2400" spc="-1" strike="noStrike">
              <a:solidFill>
                <a:srgbClr val="000000"/>
              </a:solidFill>
              <a:latin typeface="Calibri"/>
            </a:endParaRPr>
          </a:p>
          <a:p>
            <a:pPr marL="457200" indent="-4572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Branch In-charge    – Rs.1770/-</a:t>
            </a:r>
            <a:endParaRPr b="0" lang="en-US" sz="2400" spc="-1" strike="noStrike">
              <a:solidFill>
                <a:srgbClr val="000000"/>
              </a:solidFill>
              <a:latin typeface="Calibri"/>
            </a:endParaRPr>
          </a:p>
          <a:p>
            <a:pPr marL="457200" indent="-4572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Division In-charge   -  Rs.212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Box 2"/>
          <p:cNvSpPr/>
          <p:nvPr/>
        </p:nvSpPr>
        <p:spPr>
          <a:xfrm>
            <a:off x="533520" y="152280"/>
            <a:ext cx="754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oup Savings Linked Insurance (GSLI) &amp; Group Term Linked Insurance (GTI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27" name=""/>
          <p:cNvGraphicFramePr/>
          <p:nvPr/>
        </p:nvGraphicFramePr>
        <p:xfrm>
          <a:off x="1523880" y="685800"/>
          <a:ext cx="5131080" cy="1854360"/>
        </p:xfrm>
        <a:graphic>
          <a:graphicData uri="http://schemas.openxmlformats.org/drawingml/2006/table">
            <a:tbl>
              <a:tblPr/>
              <a:tblGrid>
                <a:gridCol w="1143000"/>
                <a:gridCol w="3988080"/>
              </a:tblGrid>
              <a:tr h="37152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Category</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Revised Basic Pay range (Rs.)</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6972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I</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46676 and abov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7152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II</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5756 to 1466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008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III</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5351 to 10575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37152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IV</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50925 to 75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
        <p:nvSpPr>
          <p:cNvPr id="128" name="TextBox 4"/>
          <p:cNvSpPr/>
          <p:nvPr/>
        </p:nvSpPr>
        <p:spPr>
          <a:xfrm>
            <a:off x="609480" y="2895480"/>
            <a:ext cx="723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oup Mediclaim Policy </a:t>
            </a:r>
            <a:endParaRPr b="0" lang="en-US" sz="1800" spc="-1" strike="noStrike">
              <a:solidFill>
                <a:srgbClr val="000000"/>
              </a:solidFill>
              <a:latin typeface="Calibri"/>
            </a:endParaRPr>
          </a:p>
        </p:txBody>
      </p:sp>
      <p:graphicFrame>
        <p:nvGraphicFramePr>
          <p:cNvPr id="129" name=""/>
          <p:cNvGraphicFramePr/>
          <p:nvPr/>
        </p:nvGraphicFramePr>
        <p:xfrm>
          <a:off x="1143000" y="3429000"/>
          <a:ext cx="6095880" cy="1752480"/>
        </p:xfrm>
        <a:graphic>
          <a:graphicData uri="http://schemas.openxmlformats.org/drawingml/2006/table">
            <a:tbl>
              <a:tblPr/>
              <a:tblGrid>
                <a:gridCol w="3048120"/>
                <a:gridCol w="3047760"/>
              </a:tblGrid>
              <a:tr h="6426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Category of</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Sum Insur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Revised basic pay range</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708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5,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Less than 6726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690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6,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etween 67265 to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008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1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bove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
        <p:nvSpPr>
          <p:cNvPr id="130" name="TextBox 6"/>
          <p:cNvSpPr/>
          <p:nvPr/>
        </p:nvSpPr>
        <p:spPr>
          <a:xfrm>
            <a:off x="685800" y="563868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fficers under Suspension – May be allowed fixation and arrears may be paid and subsistence allowance revis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Light"/>
              </a:rPr>
              <a:t>1.  ADMINISTRATIVE INSTRUCTIONS ON WAGE REVISION – CLASS II</a:t>
            </a:r>
            <a:endParaRPr b="0" lang="en-US" sz="2800" spc="-1" strike="noStrike">
              <a:solidFill>
                <a:srgbClr val="000000"/>
              </a:solidFill>
              <a:latin typeface="Calibri Light"/>
            </a:endParaRPr>
          </a:p>
        </p:txBody>
      </p:sp>
      <p:sp>
        <p:nvSpPr>
          <p:cNvPr id="132" name="PlaceHolder 2"/>
          <p:cNvSpPr>
            <a:spLocks noGrp="1"/>
          </p:cNvSpPr>
          <p:nvPr>
            <p:ph type="subTitle"/>
          </p:nvPr>
        </p:nvSpPr>
        <p:spPr>
          <a:xfrm>
            <a:off x="380520" y="1218960"/>
            <a:ext cx="8534520" cy="5257800"/>
          </a:xfrm>
          <a:prstGeom prst="rect">
            <a:avLst/>
          </a:prstGeom>
          <a:noFill/>
          <a:ln w="0">
            <a:noFill/>
          </a:ln>
        </p:spPr>
        <p:txBody>
          <a:bodyPr anchor="t">
            <a:noAutofit/>
          </a:bodyPr>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mendment Scheme w.e.f. 01/08/2017</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ligible only for existing / retired / VRS / expired  Development Officers during the period from 01/08/2017</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ot eligible for resigned/terminated Development Officers and contractual basi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ffective Date : BP, DA, HRA,CCA, TA,  mid-acad, spl. Area, transf. grant, leave encash, PF, New Pen.fund, Gratuity, FPA – 01/08/2017.       HSA, Kit Allowance, Paradeep Port Allowance, func allow   - 01/11/2022.</a:t>
            </a:r>
            <a:r>
              <a:rPr b="0" lang="en-US" sz="2800" spc="-1" strike="noStrike">
                <a:solidFill>
                  <a:srgbClr val="000000"/>
                </a:solidFill>
                <a:latin typeface="Calibri"/>
              </a:rPr>
              <a:t>Lumpsum medical – 01/01/2020</a:t>
            </a:r>
            <a:endParaRPr b="0" lang="en-US" sz="28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tment on promotion – Within 90 days from the date of publication of administrative instruction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quitable Relief – Difference between aggregate of gross emolument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0" y="-360"/>
            <a:ext cx="9067680" cy="68310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tagnation increments : once in 3 years after reaching ceiling in the scal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134" name=""/>
          <p:cNvGraphicFramePr/>
          <p:nvPr/>
        </p:nvGraphicFramePr>
        <p:xfrm>
          <a:off x="1523880" y="685800"/>
          <a:ext cx="3886200" cy="1380960"/>
        </p:xfrm>
        <a:graphic>
          <a:graphicData uri="http://schemas.openxmlformats.org/drawingml/2006/table">
            <a:tbl>
              <a:tblPr/>
              <a:tblGrid>
                <a:gridCol w="1828800"/>
                <a:gridCol w="2057400"/>
              </a:tblGrid>
              <a:tr h="640440">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Development Offic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d18e"/>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No. of Stagnation incremen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d18e"/>
                    </a:solidFill>
                  </a:tcPr>
                </a:tc>
              </a:tr>
              <a:tr h="3711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Grade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69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Grade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
        <p:nvSpPr>
          <p:cNvPr id="135" name="TextBox 1"/>
          <p:cNvSpPr/>
          <p:nvPr/>
        </p:nvSpPr>
        <p:spPr>
          <a:xfrm>
            <a:off x="152280" y="2057400"/>
            <a:ext cx="6782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ouse Rent Allowance (H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6" name=""/>
          <p:cNvGraphicFramePr/>
          <p:nvPr/>
        </p:nvGraphicFramePr>
        <p:xfrm>
          <a:off x="838080" y="2514600"/>
          <a:ext cx="7543800" cy="3944880"/>
        </p:xfrm>
        <a:graphic>
          <a:graphicData uri="http://schemas.openxmlformats.org/drawingml/2006/table">
            <a:tbl>
              <a:tblPr/>
              <a:tblGrid>
                <a:gridCol w="685800"/>
                <a:gridCol w="4648320"/>
                <a:gridCol w="2209680"/>
              </a:tblGrid>
              <a:tr h="3661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Place of Pos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ate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2006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of Mumbai, Navi Mumbai, Kolkata, New</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elhi, Chennai, Ahmedabad, Bengaluru,</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Hyderabad, Pune, Faridabad, Ghaziabad, Noida and Gurga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 of pay subject to maximum of Rs.7840/-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1189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exceeding 12 lacs except</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he cities mentioned at serial number 1, and all</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in the State of Go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8% of pay subject to maximum of Rs.6620/-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189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ll other plac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 of pay subject to maximum of Rs.6370/-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75960" y="151920"/>
            <a:ext cx="8915400" cy="6629400"/>
          </a:xfrm>
          <a:prstGeom prst="rect">
            <a:avLst/>
          </a:prstGeom>
          <a:noFill/>
          <a:ln w="0">
            <a:noFill/>
          </a:ln>
        </p:spPr>
        <p:txBody>
          <a:bodyPr anchor="t">
            <a:noAutofit/>
          </a:bodyPr>
          <a:p>
            <a:pPr>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y Compensatory Allowance (CCA)</a:t>
            </a:r>
            <a:endParaRPr b="0" lang="en-US" sz="1800" spc="-1" strike="noStrike">
              <a:solidFill>
                <a:srgbClr val="000000"/>
              </a:solidFill>
              <a:latin typeface="Calibri"/>
            </a:endParaRPr>
          </a:p>
          <a:p>
            <a:pPr>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 4 classes viz., Metro, Class A, B &amp; C</a:t>
            </a:r>
            <a:endParaRPr b="0" lang="en-US" sz="1800" spc="-1" strike="noStrike">
              <a:solidFill>
                <a:srgbClr val="000000"/>
              </a:solidFill>
              <a:latin typeface="Calibri"/>
            </a:endParaRPr>
          </a:p>
        </p:txBody>
      </p:sp>
      <p:graphicFrame>
        <p:nvGraphicFramePr>
          <p:cNvPr id="138" name=""/>
          <p:cNvGraphicFramePr/>
          <p:nvPr/>
        </p:nvGraphicFramePr>
        <p:xfrm>
          <a:off x="380880" y="1371600"/>
          <a:ext cx="8534520" cy="4876920"/>
        </p:xfrm>
        <a:graphic>
          <a:graphicData uri="http://schemas.openxmlformats.org/drawingml/2006/table">
            <a:tbl>
              <a:tblPr/>
              <a:tblGrid>
                <a:gridCol w="960480"/>
                <a:gridCol w="5135760"/>
                <a:gridCol w="2438280"/>
              </a:tblGrid>
              <a:tr h="5079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Clas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Place of Pos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2873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tr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of Mumbai, Navi Mumbai, Kolkat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ew Delhi, Chennai, Ahmedabad, Bengaluru,</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Hyderabad, Pune, Faridabad, Ghaziabad, Noid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nd Gurga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 of pay subject to a maximum of Rs.1660/-</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10447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exceeding 12</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lacs, except cities mentioned in serial number 1,</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nd all cities in the State of Go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 of pay subject to a maximum of Rs.153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5289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of 5 lacs and</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bove but not exceeding 12 lacs, State capital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with population not exceeding 12 lac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1800" spc="-1" strike="noStrike">
                          <a:solidFill>
                            <a:srgbClr val="000000"/>
                          </a:solidFill>
                          <a:latin typeface="Calibri"/>
                        </a:rPr>
                        <a:t>Chandigarh, Mohali, Panchkula, Pondicherry, Port</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lai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pay subject to a maximum of Rs.1345/-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5079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ll other C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i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228600"/>
            <a:ext cx="8229600" cy="58975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llowance for Technical Qualification</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140" name=""/>
          <p:cNvGraphicFramePr/>
          <p:nvPr/>
        </p:nvGraphicFramePr>
        <p:xfrm>
          <a:off x="914400" y="838080"/>
          <a:ext cx="7238880" cy="5578560"/>
        </p:xfrm>
        <a:graphic>
          <a:graphicData uri="http://schemas.openxmlformats.org/drawingml/2006/table">
            <a:tbl>
              <a:tblPr/>
              <a:tblGrid>
                <a:gridCol w="814320"/>
                <a:gridCol w="4524480"/>
                <a:gridCol w="1900080"/>
              </a:tblGrid>
              <a:tr h="1189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Sl. 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Examin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Allowance for Technical Qualification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7377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urance Institute of India or Chartered</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urance Institute:</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n completion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 Licentiate</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 Associateship</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i) Fellowship</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55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50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25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6404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titute of Actuarie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n passing each subjec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55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20120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titute of Chartered Accountant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titute of Cost and Works Accountant:</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n completion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 Intermediate Examination</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 Final Group A or Group B</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i) Final Group A and Group 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080/-</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84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25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51920"/>
            <a:ext cx="8229600" cy="67057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xed Personal Allowance (FPA)</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nveyance Allowance for DO(A) – Rs.925/-</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nveyance Allowance for PwD – Rs.400 per month</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142" name=""/>
          <p:cNvGraphicFramePr/>
          <p:nvPr/>
        </p:nvGraphicFramePr>
        <p:xfrm>
          <a:off x="914400" y="838080"/>
          <a:ext cx="7086600" cy="1795680"/>
        </p:xfrm>
        <a:graphic>
          <a:graphicData uri="http://schemas.openxmlformats.org/drawingml/2006/table">
            <a:tbl>
              <a:tblPr/>
              <a:tblGrid>
                <a:gridCol w="762120"/>
                <a:gridCol w="3962160"/>
                <a:gridCol w="2362320"/>
              </a:tblGrid>
              <a:tr h="9144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Officers in the scale of pay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as on 1.11.199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evised Fixed Personal Allowance (FP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4399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evelopment Officers Gr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441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evelopment Officers Gr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8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Box 1"/>
          <p:cNvSpPr/>
          <p:nvPr/>
        </p:nvSpPr>
        <p:spPr>
          <a:xfrm>
            <a:off x="228600" y="152280"/>
            <a:ext cx="8001000" cy="173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ll Station Allowance (HSA)</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4" name=""/>
          <p:cNvGraphicFramePr/>
          <p:nvPr/>
        </p:nvGraphicFramePr>
        <p:xfrm>
          <a:off x="1066680" y="685800"/>
          <a:ext cx="7086600" cy="5029200"/>
        </p:xfrm>
        <a:graphic>
          <a:graphicData uri="http://schemas.openxmlformats.org/drawingml/2006/table">
            <a:tbl>
              <a:tblPr/>
              <a:tblGrid>
                <a:gridCol w="797040"/>
                <a:gridCol w="3394080"/>
                <a:gridCol w="2895480"/>
              </a:tblGrid>
              <a:tr h="6426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S.No.</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Height of Place of posting</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Above Mean Sea Leve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Rate</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9169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1</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500 meters and o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 of the Basic Salary subject to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00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201420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2</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00 meters and over but less than 1500 meter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rcara and places which are specifically</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eclared as "Hill Stations" by Central/ State</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Governments for their employe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the Basic Salary subject to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79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4655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3</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ot less than 750 meters and surrounded by and</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ccessible only through hills with a height of 1000</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ters and o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Basic Salary subject to a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79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
        <p:nvSpPr>
          <p:cNvPr id="145" name="TextBox 4"/>
          <p:cNvSpPr/>
          <p:nvPr/>
        </p:nvSpPr>
        <p:spPr>
          <a:xfrm>
            <a:off x="380880" y="6248520"/>
            <a:ext cx="7315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aradeep Port Allowance : Rs.265 pm (Not treated as B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Box 2"/>
          <p:cNvSpPr/>
          <p:nvPr/>
        </p:nvSpPr>
        <p:spPr>
          <a:xfrm>
            <a:off x="76320" y="1417680"/>
            <a:ext cx="754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oup Savings Linked Insurance (GSLI) &amp; Group Term Linked Insurance (GTI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7" name=""/>
          <p:cNvGraphicFramePr/>
          <p:nvPr/>
        </p:nvGraphicFramePr>
        <p:xfrm>
          <a:off x="1523880" y="1870200"/>
          <a:ext cx="5131080" cy="1482480"/>
        </p:xfrm>
        <a:graphic>
          <a:graphicData uri="http://schemas.openxmlformats.org/drawingml/2006/table">
            <a:tbl>
              <a:tblPr/>
              <a:tblGrid>
                <a:gridCol w="1143000"/>
                <a:gridCol w="3988080"/>
              </a:tblGrid>
              <a:tr h="369720">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Categor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evised Basic Pay range (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71520">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5351 to 997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69720">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0351 to 75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1520">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4315 to 40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
        <p:nvSpPr>
          <p:cNvPr id="148" name="TextBox 4"/>
          <p:cNvSpPr/>
          <p:nvPr/>
        </p:nvSpPr>
        <p:spPr>
          <a:xfrm>
            <a:off x="609480" y="3516480"/>
            <a:ext cx="723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oup Mediclaim Policy </a:t>
            </a:r>
            <a:endParaRPr b="0" lang="en-US" sz="1800" spc="-1" strike="noStrike">
              <a:solidFill>
                <a:srgbClr val="000000"/>
              </a:solidFill>
              <a:latin typeface="Calibri"/>
            </a:endParaRPr>
          </a:p>
        </p:txBody>
      </p:sp>
      <p:graphicFrame>
        <p:nvGraphicFramePr>
          <p:cNvPr id="149" name=""/>
          <p:cNvGraphicFramePr/>
          <p:nvPr/>
        </p:nvGraphicFramePr>
        <p:xfrm>
          <a:off x="1143000" y="4114800"/>
          <a:ext cx="6095880" cy="1752480"/>
        </p:xfrm>
        <a:graphic>
          <a:graphicData uri="http://schemas.openxmlformats.org/drawingml/2006/table">
            <a:tbl>
              <a:tblPr/>
              <a:tblGrid>
                <a:gridCol w="3048120"/>
                <a:gridCol w="3047760"/>
              </a:tblGrid>
              <a:tr h="6426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Category of</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Sum Insur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Revised basic pay range</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708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5,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Less than 6726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690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6,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etween 67265 to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008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1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bove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
        <p:nvSpPr>
          <p:cNvPr id="150" name="TextBox 6"/>
          <p:cNvSpPr/>
          <p:nvPr/>
        </p:nvSpPr>
        <p:spPr>
          <a:xfrm>
            <a:off x="685800" y="605952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velopment Officers under Suspension – May be allowed fixation and arrears may be paid and subsistence allowance revised</a:t>
            </a:r>
            <a:endParaRPr b="0" lang="en-US" sz="1800" spc="-1" strike="noStrike">
              <a:solidFill>
                <a:srgbClr val="000000"/>
              </a:solidFill>
              <a:latin typeface="Calibri"/>
            </a:endParaRPr>
          </a:p>
        </p:txBody>
      </p:sp>
      <p:sp>
        <p:nvSpPr>
          <p:cNvPr id="151" name="TextBox 1"/>
          <p:cNvSpPr/>
          <p:nvPr/>
        </p:nvSpPr>
        <p:spPr>
          <a:xfrm>
            <a:off x="152280" y="152280"/>
            <a:ext cx="7239240" cy="13136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umpsum medical benefit (Basic Pay as on 1</a:t>
            </a:r>
            <a:r>
              <a:rPr b="0" lang="en-US" sz="2000" spc="-1" strike="noStrike" baseline="30000">
                <a:solidFill>
                  <a:srgbClr val="000000"/>
                </a:solidFill>
                <a:latin typeface="Calibri"/>
              </a:rPr>
              <a:t>st</a:t>
            </a:r>
            <a:r>
              <a:rPr b="0" lang="en-US" sz="2000" spc="-1" strike="noStrike">
                <a:solidFill>
                  <a:srgbClr val="000000"/>
                </a:solidFill>
                <a:latin typeface="Calibri"/>
              </a:rPr>
              <a:t> Jan) – </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asic Pay upto Rs.72375/-    - Rs.12300/-</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bove Basic Pay Rs.72375/- - Rs.19600/-</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Light"/>
              </a:rPr>
              <a:t>1.  ADMINISTRATIVE INSTRUCTIONS ON WAGE REVISION – CLASS III &amp; IV</a:t>
            </a:r>
            <a:endParaRPr b="0" lang="en-US" sz="2800" spc="-1" strike="noStrike">
              <a:solidFill>
                <a:srgbClr val="000000"/>
              </a:solidFill>
              <a:latin typeface="Calibri Light"/>
            </a:endParaRPr>
          </a:p>
        </p:txBody>
      </p:sp>
      <p:sp>
        <p:nvSpPr>
          <p:cNvPr id="153" name="PlaceHolder 2"/>
          <p:cNvSpPr>
            <a:spLocks noGrp="1"/>
          </p:cNvSpPr>
          <p:nvPr>
            <p:ph type="subTitle"/>
          </p:nvPr>
        </p:nvSpPr>
        <p:spPr>
          <a:xfrm>
            <a:off x="380520" y="1218960"/>
            <a:ext cx="8534520" cy="5257800"/>
          </a:xfrm>
          <a:prstGeom prst="rect">
            <a:avLst/>
          </a:prstGeom>
          <a:noFill/>
          <a:ln w="0">
            <a:noFill/>
          </a:ln>
        </p:spPr>
        <p:txBody>
          <a:bodyPr anchor="t">
            <a:noAutofit/>
          </a:bodyPr>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mendment Scheme w.e.f. 01/08/2017</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ligible only for existing / retired / VRS / expired employees during the period from 01/08/2017  (Resigned/terminated not eligible for wage revision)</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ot eligible for  employees appointed on contractual basi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ffective Date : BP, DA, HRA,CCA, TA,  mid-acad, spl. Area, transf. grant, leave encash, PF, New Pen.fund, Gratuity, FPA – 01/08/2017.       HSA, Kit Allowance, Paradeep Port Allowance, func allow    - 01/11/2022.</a:t>
            </a:r>
            <a:r>
              <a:rPr b="0" lang="en-US" sz="2800" spc="-1" strike="noStrike">
                <a:solidFill>
                  <a:srgbClr val="000000"/>
                </a:solidFill>
                <a:latin typeface="Calibri"/>
              </a:rPr>
              <a:t>Lumpsum medical –01/01/2020</a:t>
            </a:r>
            <a:endParaRPr b="0" lang="en-US" sz="28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tment on promotion – Within 90 days from the date of publication of administrative instruc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52280"/>
            <a:ext cx="8229600" cy="59738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mployee – Employee of the Company other than casual, work-charged (specific work) and contingent staff (temporary or need based)</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amily – wife or husband, dependent children, </a:t>
            </a:r>
            <a:r>
              <a:rPr b="1" lang="en-US" sz="2400" spc="-1" strike="noStrike">
                <a:solidFill>
                  <a:srgbClr val="000000"/>
                </a:solidFill>
                <a:latin typeface="Calibri"/>
              </a:rPr>
              <a:t>any other person wholly dependent on the employe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Board Sub-committee (HR) – A sub-committee of Directors of the Board nominated by the Board.</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ublic Servant – as mentioned in Section 21 of IPC.</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xual Harassment &amp; work place – as defined under ‘the sexual harassment of women at workplace (Prevention, prohibition and Redressal) Act, 2013</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27000" y="75960"/>
            <a:ext cx="9067680" cy="66294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tagnation increments :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155" name=""/>
          <p:cNvGraphicFramePr/>
          <p:nvPr/>
        </p:nvGraphicFramePr>
        <p:xfrm>
          <a:off x="1523880" y="685800"/>
          <a:ext cx="3886200" cy="1380960"/>
        </p:xfrm>
        <a:graphic>
          <a:graphicData uri="http://schemas.openxmlformats.org/drawingml/2006/table">
            <a:tbl>
              <a:tblPr/>
              <a:tblGrid>
                <a:gridCol w="1828800"/>
                <a:gridCol w="2057400"/>
              </a:tblGrid>
              <a:tr h="640440">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cal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d18e"/>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No. of Stagnation incremen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d18e"/>
                    </a:solidFill>
                  </a:tcPr>
                </a:tc>
              </a:tr>
              <a:tr h="3711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r.Asst/Ste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6 (once in 3 yea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69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ssista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 (once in 2 yea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
        <p:nvSpPr>
          <p:cNvPr id="156" name="TextBox 1"/>
          <p:cNvSpPr/>
          <p:nvPr/>
        </p:nvSpPr>
        <p:spPr>
          <a:xfrm>
            <a:off x="304920" y="2209680"/>
            <a:ext cx="65530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aduation Increment / Allowance to employees to Assistants</a:t>
            </a:r>
            <a:endParaRPr b="0" lang="en-US" sz="1800" spc="-1" strike="noStrike">
              <a:solidFill>
                <a:srgbClr val="000000"/>
              </a:solidFill>
              <a:latin typeface="Calibri"/>
            </a:endParaRPr>
          </a:p>
        </p:txBody>
      </p:sp>
      <p:sp>
        <p:nvSpPr>
          <p:cNvPr id="157" name="TextBox 4"/>
          <p:cNvSpPr/>
          <p:nvPr/>
        </p:nvSpPr>
        <p:spPr>
          <a:xfrm>
            <a:off x="685800" y="2666880"/>
            <a:ext cx="7620120" cy="173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istant graduated on or after 01/01/1973 but before 01/08/2007 &amp; not reached maximum of the scale shall be granted maximum 2  increment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 increment if the basic pay of the employee is Rs.59765</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uation allowance can be paid to Assistants if reached maximum and graduated before 01/08/2007</a:t>
            </a: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a:t>
            </a:r>
            <a:r>
              <a:rPr b="0" lang="en-US" sz="1800" spc="-1" strike="noStrike" baseline="30000">
                <a:solidFill>
                  <a:srgbClr val="000000"/>
                </a:solidFill>
                <a:latin typeface="Calibri"/>
              </a:rPr>
              <a:t>st</a:t>
            </a:r>
            <a:r>
              <a:rPr b="0" lang="en-US" sz="1800" spc="-1" strike="noStrike">
                <a:solidFill>
                  <a:srgbClr val="000000"/>
                </a:solidFill>
                <a:latin typeface="Calibri"/>
              </a:rPr>
              <a:t> year – Rs.920,       2</a:t>
            </a:r>
            <a:r>
              <a:rPr b="0" lang="en-US" sz="1800" spc="-1" strike="noStrike" baseline="30000">
                <a:solidFill>
                  <a:srgbClr val="000000"/>
                </a:solidFill>
                <a:latin typeface="Calibri"/>
              </a:rPr>
              <a:t>nd</a:t>
            </a:r>
            <a:r>
              <a:rPr b="0" lang="en-US" sz="1800" spc="-1" strike="noStrike">
                <a:solidFill>
                  <a:srgbClr val="000000"/>
                </a:solidFill>
                <a:latin typeface="Calibri"/>
              </a:rPr>
              <a:t> year – Rs.1625</a:t>
            </a:r>
            <a:endParaRPr b="0" lang="en-US" sz="1800" spc="-1" strike="noStrike">
              <a:solidFill>
                <a:srgbClr val="000000"/>
              </a:solidFill>
              <a:latin typeface="Calibri"/>
            </a:endParaRPr>
          </a:p>
        </p:txBody>
      </p:sp>
      <p:sp>
        <p:nvSpPr>
          <p:cNvPr id="158" name="TextBox 5"/>
          <p:cNvSpPr/>
          <p:nvPr/>
        </p:nvSpPr>
        <p:spPr>
          <a:xfrm>
            <a:off x="457200" y="4964040"/>
            <a:ext cx="7848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aduation Increment / Allowance to employees to Record Clerks – Rs.61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51920" y="-152640"/>
            <a:ext cx="9068040" cy="7086600"/>
          </a:xfrm>
          <a:prstGeom prst="rect">
            <a:avLst/>
          </a:prstGeom>
          <a:noFill/>
          <a:ln w="0">
            <a:noFill/>
          </a:ln>
        </p:spPr>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House Rent Allowance</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      </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Employees provided leased accommodation – No HRA.  License Fee @ 0.50% of minimum basic pay of the revised scale w.e.f 01/11/2022 is deducted.</a:t>
            </a:r>
            <a:endParaRPr b="0" lang="en-US" sz="20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160" name=""/>
          <p:cNvGraphicFramePr/>
          <p:nvPr/>
        </p:nvGraphicFramePr>
        <p:xfrm>
          <a:off x="533520" y="609480"/>
          <a:ext cx="8076960" cy="4211640"/>
        </p:xfrm>
        <a:graphic>
          <a:graphicData uri="http://schemas.openxmlformats.org/drawingml/2006/table">
            <a:tbl>
              <a:tblPr/>
              <a:tblGrid>
                <a:gridCol w="907920"/>
                <a:gridCol w="4476600"/>
                <a:gridCol w="2692440"/>
              </a:tblGrid>
              <a:tr h="370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Place of Pos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ate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189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of Mumbai, Navi Mumbai, Kolkata, New</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elhi, Chennai, Ahmedabad, Bengaluru,</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Hyderabad, Pune, Faridabad, Ghaziabad, Noida and Gurga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 of pay subject to maximum of Rs.7840/-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14634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exceeding 12 lacs except</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he cities mentioned at serial number 1, and all</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in the State of Go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8% of pay subject to maximum of Rs.6620/- per month (Minimum Rs.14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189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ll other plac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 of pay subject to maximum of Rs.6370/-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 Minimum Rs.14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ubTitle"/>
          </p:nvPr>
        </p:nvSpPr>
        <p:spPr>
          <a:xfrm>
            <a:off x="75960" y="151920"/>
            <a:ext cx="8915400" cy="6629400"/>
          </a:xfrm>
          <a:prstGeom prst="rect">
            <a:avLst/>
          </a:prstGeom>
          <a:noFill/>
          <a:ln w="0">
            <a:noFill/>
          </a:ln>
        </p:spPr>
        <p:txBody>
          <a:bodyPr anchor="t">
            <a:noAutofit/>
          </a:bodyPr>
          <a:p>
            <a:pPr>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y Compensatory Allowance (CCA)</a:t>
            </a:r>
            <a:endParaRPr b="0" lang="en-US" sz="1800" spc="-1" strike="noStrike">
              <a:solidFill>
                <a:srgbClr val="000000"/>
              </a:solidFill>
              <a:latin typeface="Calibri"/>
            </a:endParaRPr>
          </a:p>
          <a:p>
            <a:pPr>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 4 classes viz., Metro, Class A, B &amp; C</a:t>
            </a:r>
            <a:endParaRPr b="0" lang="en-US" sz="1800" spc="-1" strike="noStrike">
              <a:solidFill>
                <a:srgbClr val="000000"/>
              </a:solidFill>
              <a:latin typeface="Calibri"/>
            </a:endParaRPr>
          </a:p>
        </p:txBody>
      </p:sp>
      <p:graphicFrame>
        <p:nvGraphicFramePr>
          <p:cNvPr id="162" name=""/>
          <p:cNvGraphicFramePr/>
          <p:nvPr/>
        </p:nvGraphicFramePr>
        <p:xfrm>
          <a:off x="380880" y="1371600"/>
          <a:ext cx="8534520" cy="4876920"/>
        </p:xfrm>
        <a:graphic>
          <a:graphicData uri="http://schemas.openxmlformats.org/drawingml/2006/table">
            <a:tbl>
              <a:tblPr/>
              <a:tblGrid>
                <a:gridCol w="960480"/>
                <a:gridCol w="5135760"/>
                <a:gridCol w="2438280"/>
              </a:tblGrid>
              <a:tr h="5079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Clas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Place of Pos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2873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tr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of Mumbai, Navi Mumbai, Kolkat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ew Delhi, Chennai, Ahmedabad, Bengaluru,</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Hyderabad, Pune, Faridabad, Ghaziabad, Noid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nd Gurga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 of pay subject to a maximum of Rs.155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10447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exceeding 12</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lacs, except cities mentioned in serial number 1,</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nd all cities in the State of Go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 of pay subject to a maximum of Rs.1460/-</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5289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of 5 lacs and</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bove but not exceeding 12 lacs, State capital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with population not exceeding 12 lac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1800" spc="-1" strike="noStrike">
                          <a:solidFill>
                            <a:srgbClr val="000000"/>
                          </a:solidFill>
                          <a:latin typeface="Calibri"/>
                        </a:rPr>
                        <a:t>Chandigarh, Mohali, Panchkula, Pondicherry, Port</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lai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pay subject to a maximum of Rs.1255/-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5079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ll other C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i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304920"/>
            <a:ext cx="8229600" cy="58212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unctional Allowance – Employee can draw only one FA</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164" name=""/>
          <p:cNvGraphicFramePr/>
          <p:nvPr/>
        </p:nvGraphicFramePr>
        <p:xfrm>
          <a:off x="685800" y="925560"/>
          <a:ext cx="7543800" cy="5653080"/>
        </p:xfrm>
        <a:graphic>
          <a:graphicData uri="http://schemas.openxmlformats.org/drawingml/2006/table">
            <a:tbl>
              <a:tblPr/>
              <a:tblGrid>
                <a:gridCol w="685800"/>
                <a:gridCol w="5638680"/>
                <a:gridCol w="1219320"/>
              </a:tblGrid>
              <a:tr h="14479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Calibri"/>
                        </a:rPr>
                        <a:t>(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Calibri"/>
                        </a:rPr>
                        <a:t>Subordinate Staff engaged in either as Key Holder or for carrying cash to or from Bank, as his regular and main function, where the amount of cash carried during a calendar month is ordinarily Rs. 25,000/- or mor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Calibri"/>
                        </a:rPr>
                        <a:t>Rs. 1000/- p.m.</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1872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i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Other Subordinate Staff working as Liftmen, Machine Operators, Head Peons, Jamadars, Daftaries, AC Plant Operators and Heavy Vehicle Drivers, who were assigned these functions before 1st day of January, 2006,</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Rs. 165/- p.m.</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14637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ii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Assistant (or Senior Assistant, in the event of non-availability of Assistant) engaged in handling cash in an office, as his regular and main function, where the amount of cash transactions during a calendar month is</a:t>
                      </a:r>
                      <a:endParaRPr b="0" lang="en-US" sz="16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ordinarily Rs. 25,000/- or mor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Rs. 2120/- p.m</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9144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iv)</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Telex Operators, Punch Card Operators, Unit Record Machine Operators and Comptists, who were assigned these functions before 1st day of January, 2006</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Rs. 60/- p.m.</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6397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v)</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Stenographer to Chairman-cum-Managing Director, Scale VII, Scale VI and equivalent position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Rs. 75/- p.m.</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151920" y="75960"/>
            <a:ext cx="8534520" cy="6049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llowance for Technical Qualification</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166" name=""/>
          <p:cNvGraphicFramePr/>
          <p:nvPr/>
        </p:nvGraphicFramePr>
        <p:xfrm>
          <a:off x="457200" y="609480"/>
          <a:ext cx="8229600" cy="6096240"/>
        </p:xfrm>
        <a:graphic>
          <a:graphicData uri="http://schemas.openxmlformats.org/drawingml/2006/table">
            <a:tbl>
              <a:tblPr/>
              <a:tblGrid>
                <a:gridCol w="609480"/>
                <a:gridCol w="5791320"/>
                <a:gridCol w="1828800"/>
              </a:tblGrid>
              <a:tr h="1189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Sl. 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Examin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Allowance for Technical Qualification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7377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urance Institute of India or Chartered</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urance Institute:</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n completion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 Licentiate</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 Associateship</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i) Fellowship</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55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50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25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6404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titute of Actuarie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n passing each subjec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55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7978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titute of Chartered Accountant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r Institute of Cost and Works Accountant:</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n completion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 Intermediate Examination</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 Final Group A or Group B</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i) Final Group A and Group 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080/-</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84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25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7311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n completion of Master of Business Administration of a recognised University or Institution (AICTE approved cours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25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151920"/>
            <a:ext cx="8229600" cy="67057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xed Personal Allowance (FPA)</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ef 01/08/2012, the entire amount of FPA shall reckon as basic pay for the purpose of HRA, PF, Pension, Gratuity and encashment of earned leave (will not count for DA)</a:t>
            </a:r>
            <a:endParaRPr b="0" lang="en-US" sz="2400" spc="-1" strike="noStrike">
              <a:solidFill>
                <a:srgbClr val="000000"/>
              </a:solidFill>
              <a:latin typeface="Calibri"/>
            </a:endParaRPr>
          </a:p>
        </p:txBody>
      </p:sp>
      <p:graphicFrame>
        <p:nvGraphicFramePr>
          <p:cNvPr id="168" name=""/>
          <p:cNvGraphicFramePr/>
          <p:nvPr/>
        </p:nvGraphicFramePr>
        <p:xfrm>
          <a:off x="914400" y="838080"/>
          <a:ext cx="7086600" cy="2676600"/>
        </p:xfrm>
        <a:graphic>
          <a:graphicData uri="http://schemas.openxmlformats.org/drawingml/2006/table">
            <a:tbl>
              <a:tblPr/>
              <a:tblGrid>
                <a:gridCol w="762120"/>
                <a:gridCol w="3962160"/>
                <a:gridCol w="2362320"/>
              </a:tblGrid>
              <a:tr h="9144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Officers in the scale of pay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as on 1.11.199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evised Fixed Personal Allowance (FP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4399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enior Assistant/Steno/Assista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441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ecord Clerk</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58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4395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ri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16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441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ther Subordinate Staff</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16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52280" y="151920"/>
            <a:ext cx="8763120" cy="6629400"/>
          </a:xfrm>
          <a:prstGeom prst="rect">
            <a:avLst/>
          </a:prstGeom>
          <a:noFill/>
          <a:ln w="0">
            <a:noFill/>
          </a:ln>
        </p:spPr>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ransport Allowance – Rs.680 per month</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nveyance Allowance for PwD – Rs.400 per month</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ashing Allowance for Cl IV – Rs.355 per month</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vident Fund –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mployees appointed before 01/01/2004 -10% of basic pay</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ncludes FPA also)</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mployees joined between 01/01/2004  - 10% of basic pay</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and 31/03/2010</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mployees joined after                      - No recovery.  Covered</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31/03/2010                                            under NPS</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Lumpsum medical benefit (Basic Pay as on 1</a:t>
            </a:r>
            <a:r>
              <a:rPr b="0" lang="en-US" sz="2400" spc="-1" strike="noStrike" baseline="30000">
                <a:solidFill>
                  <a:srgbClr val="000000"/>
                </a:solidFill>
                <a:latin typeface="Calibri"/>
              </a:rPr>
              <a:t>st</a:t>
            </a:r>
            <a:r>
              <a:rPr b="0" lang="en-US" sz="2400" spc="-1" strike="noStrike">
                <a:solidFill>
                  <a:srgbClr val="000000"/>
                </a:solidFill>
                <a:latin typeface="Calibri"/>
              </a:rPr>
              <a:t> Jan) – Rs.9800/-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Functional Allowance to Audit Assistant – Rs.1200/-</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1"/>
          <p:cNvSpPr/>
          <p:nvPr/>
        </p:nvSpPr>
        <p:spPr>
          <a:xfrm>
            <a:off x="228600" y="152280"/>
            <a:ext cx="8001000" cy="173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ll Station Allowance (HSA)</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1" name=""/>
          <p:cNvGraphicFramePr/>
          <p:nvPr/>
        </p:nvGraphicFramePr>
        <p:xfrm>
          <a:off x="1066680" y="685800"/>
          <a:ext cx="7086600" cy="5029200"/>
        </p:xfrm>
        <a:graphic>
          <a:graphicData uri="http://schemas.openxmlformats.org/drawingml/2006/table">
            <a:tbl>
              <a:tblPr/>
              <a:tblGrid>
                <a:gridCol w="797040"/>
                <a:gridCol w="3394080"/>
                <a:gridCol w="2895480"/>
              </a:tblGrid>
              <a:tr h="6426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S.No.</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Height of Place of posting</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Above Mean Sea Leve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Rate</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9169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1</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500 meters and o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 of the Basic Salary subject to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00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201420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2</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00 meters and over but less than 1500 meter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rcara and places which are specifically</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eclared as "Hill Stations" by Central/ State</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Governments for their employe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the Basic Salary subject to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79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4655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3</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ot less than 750 meters and surrounded by and</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ccessible only through hills with a height of 1000</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ters and o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Basic Salary subject to a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79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
        <p:nvSpPr>
          <p:cNvPr id="172" name="TextBox 3"/>
          <p:cNvSpPr/>
          <p:nvPr/>
        </p:nvSpPr>
        <p:spPr>
          <a:xfrm>
            <a:off x="380880" y="5791320"/>
            <a:ext cx="76201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Kit Allowance : Rs.2250/-</a:t>
            </a:r>
            <a:endParaRPr b="0" lang="en-US" sz="1800" spc="-1" strike="noStrike">
              <a:solidFill>
                <a:srgbClr val="000000"/>
              </a:solidFill>
              <a:latin typeface="Calibri"/>
            </a:endParaRPr>
          </a:p>
        </p:txBody>
      </p:sp>
      <p:sp>
        <p:nvSpPr>
          <p:cNvPr id="173" name="TextBox 4"/>
          <p:cNvSpPr/>
          <p:nvPr/>
        </p:nvSpPr>
        <p:spPr>
          <a:xfrm>
            <a:off x="380880" y="6248520"/>
            <a:ext cx="7315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aradeep Port Allowance : Rs.265 pm (Not treated as B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Box 2"/>
          <p:cNvSpPr/>
          <p:nvPr/>
        </p:nvSpPr>
        <p:spPr>
          <a:xfrm>
            <a:off x="533520" y="152280"/>
            <a:ext cx="7543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oup Savings Linked Insurance (GSLI) – 20/11/1988 &amp; Group Term Linked Insurance (GTIS) – GTIS – 01/10/1997</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5" name=""/>
          <p:cNvGraphicFramePr/>
          <p:nvPr/>
        </p:nvGraphicFramePr>
        <p:xfrm>
          <a:off x="1523880" y="685800"/>
          <a:ext cx="5131080" cy="1854360"/>
        </p:xfrm>
        <a:graphic>
          <a:graphicData uri="http://schemas.openxmlformats.org/drawingml/2006/table">
            <a:tbl>
              <a:tblPr/>
              <a:tblGrid>
                <a:gridCol w="1143000"/>
                <a:gridCol w="3988080"/>
              </a:tblGrid>
              <a:tr h="37152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Category</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Revised Basic Pay range (Rs.)</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6972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III</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5351 to 928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7152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IV</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0351 to 75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008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V</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1686 to 40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37152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VI</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Upto 2168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
        <p:nvSpPr>
          <p:cNvPr id="176" name="TextBox 4"/>
          <p:cNvSpPr/>
          <p:nvPr/>
        </p:nvSpPr>
        <p:spPr>
          <a:xfrm>
            <a:off x="609480" y="2895480"/>
            <a:ext cx="723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oup Mediclaim Policy </a:t>
            </a:r>
            <a:endParaRPr b="0" lang="en-US" sz="1800" spc="-1" strike="noStrike">
              <a:solidFill>
                <a:srgbClr val="000000"/>
              </a:solidFill>
              <a:latin typeface="Calibri"/>
            </a:endParaRPr>
          </a:p>
        </p:txBody>
      </p:sp>
      <p:graphicFrame>
        <p:nvGraphicFramePr>
          <p:cNvPr id="177" name=""/>
          <p:cNvGraphicFramePr/>
          <p:nvPr/>
        </p:nvGraphicFramePr>
        <p:xfrm>
          <a:off x="1143000" y="3429000"/>
          <a:ext cx="6095880" cy="1752480"/>
        </p:xfrm>
        <a:graphic>
          <a:graphicData uri="http://schemas.openxmlformats.org/drawingml/2006/table">
            <a:tbl>
              <a:tblPr/>
              <a:tblGrid>
                <a:gridCol w="3048120"/>
                <a:gridCol w="3047760"/>
              </a:tblGrid>
              <a:tr h="6426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Category of</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Sum Insur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Revised basic pay range</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708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5,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Less than 6726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690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6,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etween 67265 to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008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1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bove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
        <p:nvSpPr>
          <p:cNvPr id="178" name="TextBox 6"/>
          <p:cNvSpPr/>
          <p:nvPr/>
        </p:nvSpPr>
        <p:spPr>
          <a:xfrm>
            <a:off x="685800" y="563868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mployees under Suspension – May be allowed fixation and arrears may be paid and subsistence allowance revis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LEAVE RULES</a:t>
            </a:r>
            <a:endParaRPr b="0" lang="en-US" sz="4400" spc="-1" strike="noStrike">
              <a:solidFill>
                <a:srgbClr val="000000"/>
              </a:solidFill>
              <a:latin typeface="Calibri"/>
            </a:endParaRPr>
          </a:p>
        </p:txBody>
      </p:sp>
      <p:sp>
        <p:nvSpPr>
          <p:cNvPr id="180" name="Text Box 2"/>
          <p:cNvSpPr/>
          <p:nvPr/>
        </p:nvSpPr>
        <p:spPr>
          <a:xfrm>
            <a:off x="457200" y="1143000"/>
            <a:ext cx="8229600" cy="518940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clubbing of leave not permitted except</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CL </a:t>
            </a:r>
            <a:r>
              <a:rPr b="1" lang="en-US" sz="3200" spc="-1" strike="noStrike">
                <a:solidFill>
                  <a:srgbClr val="ff0000"/>
                </a:solidFill>
                <a:latin typeface="Calibri"/>
                <a:ea typeface="Microsoft YaHei"/>
              </a:rPr>
              <a:t>with</a:t>
            </a:r>
            <a:r>
              <a:rPr b="0" lang="en-US" sz="3200" spc="-1" strike="noStrike">
                <a:solidFill>
                  <a:srgbClr val="000000"/>
                </a:solidFill>
                <a:latin typeface="Calibri"/>
                <a:ea typeface="Microsoft YaHei"/>
              </a:rPr>
              <a:t> examn leave/lop/quarantine</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PL </a:t>
            </a:r>
            <a:r>
              <a:rPr b="1" lang="en-US" sz="3200" spc="-1" strike="noStrike">
                <a:solidFill>
                  <a:srgbClr val="ff0000"/>
                </a:solidFill>
                <a:latin typeface="Calibri"/>
                <a:ea typeface="Microsoft YaHei"/>
              </a:rPr>
              <a:t>with</a:t>
            </a:r>
            <a:r>
              <a:rPr b="0" lang="en-US" sz="3200" spc="-1" strike="noStrike">
                <a:solidFill>
                  <a:srgbClr val="000000"/>
                </a:solidFill>
                <a:latin typeface="Calibri"/>
                <a:ea typeface="Microsoft YaHei"/>
              </a:rPr>
              <a:t> lop/sl/ml/exam leave</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SL </a:t>
            </a:r>
            <a:r>
              <a:rPr b="0" lang="en-US" sz="3200" spc="-1" strike="noStrike">
                <a:solidFill>
                  <a:srgbClr val="ff0000"/>
                </a:solidFill>
                <a:latin typeface="Calibri"/>
                <a:ea typeface="Microsoft YaHei"/>
              </a:rPr>
              <a:t>with</a:t>
            </a:r>
            <a:r>
              <a:rPr b="0" lang="en-US" sz="3200" spc="-1" strike="noStrike">
                <a:solidFill>
                  <a:srgbClr val="000000"/>
                </a:solidFill>
                <a:latin typeface="Calibri"/>
                <a:ea typeface="Microsoft YaHei"/>
              </a:rPr>
              <a:t> pl/lop/ml/qurantine</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exam leave </a:t>
            </a:r>
            <a:r>
              <a:rPr b="1" lang="en-US" sz="3200" spc="-1" strike="noStrike">
                <a:solidFill>
                  <a:srgbClr val="ff0000"/>
                </a:solidFill>
                <a:latin typeface="Calibri"/>
                <a:ea typeface="Microsoft YaHei"/>
              </a:rPr>
              <a:t>with</a:t>
            </a:r>
            <a:r>
              <a:rPr b="0" lang="en-US" sz="2800" spc="-1" strike="noStrike">
                <a:solidFill>
                  <a:srgbClr val="000000"/>
                </a:solidFill>
                <a:latin typeface="Calibri"/>
                <a:ea typeface="Microsoft YaHei"/>
              </a:rPr>
              <a:t> cl/pl/ml/lop/quarantine</a:t>
            </a:r>
            <a:endParaRPr b="0" lang="en-US" sz="28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12 days CL, 2 days RH max. CL at a time 5</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joining in middle of year – doj to 31</a:t>
            </a:r>
            <a:r>
              <a:rPr b="0" lang="en-US" sz="3200" spc="-1" strike="noStrike" baseline="30000">
                <a:solidFill>
                  <a:srgbClr val="000000"/>
                </a:solidFill>
                <a:latin typeface="Calibri"/>
                <a:ea typeface="Microsoft YaHei"/>
              </a:rPr>
              <a:t>st</a:t>
            </a:r>
            <a:r>
              <a:rPr b="0" lang="en-US" sz="3200" spc="-1" strike="noStrike">
                <a:solidFill>
                  <a:srgbClr val="000000"/>
                </a:solidFill>
                <a:latin typeface="Calibri"/>
                <a:ea typeface="Microsoft YaHei"/>
              </a:rPr>
              <a:t> dec divided by 30 – no. of days of cl</a:t>
            </a:r>
            <a:endParaRPr b="0" lang="en-US" sz="32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360"/>
            <a:ext cx="8229600" cy="61261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Rule 3. General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very employee shall at all times:</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 maintain absolute integrity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i) maintain devotion to duty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ii) do nothing which is unbecoming of a public servant;</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v) conform to and abide by these Rules given to him</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Rule 4 – Misconduct</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theft, fraud or dishonesty </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aking bribes or illegal gratifiction</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ossession of pecuniary resources or property disproportionate to the known sources of income</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urnishing false information</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2Leave rules (contd)</a:t>
            </a:r>
            <a:endParaRPr b="0" lang="en-US" sz="4400" spc="-1" strike="noStrike">
              <a:solidFill>
                <a:srgbClr val="000000"/>
              </a:solidFill>
              <a:latin typeface="Calibri"/>
            </a:endParaRPr>
          </a:p>
        </p:txBody>
      </p:sp>
      <p:sp>
        <p:nvSpPr>
          <p:cNvPr id="18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lop will not affect calculation of CL</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half day CL for max. of 6 occasions</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intervening holidays between 2 CL not to be counted as leave</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RH – 2days – to be informed at the beginning of year</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EL – 1 day for every 11 days of duty</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duty excludes lop,sl,ml</a:t>
            </a:r>
            <a:endParaRPr b="0" lang="en-US" sz="3200" spc="-1" strike="noStrike">
              <a:solidFill>
                <a:srgbClr val="0000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1"/>
          <p:cNvSpPr/>
          <p:nvPr/>
        </p:nvSpPr>
        <p:spPr>
          <a:xfrm>
            <a:off x="457200" y="130320"/>
            <a:ext cx="8229600" cy="143172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3LEAVE RULES (CONTD)</a:t>
            </a:r>
            <a:br>
              <a:rPr sz="4400"/>
            </a:br>
            <a:endParaRPr b="0" lang="en-US" sz="4400" spc="-1" strike="noStrike">
              <a:solidFill>
                <a:srgbClr val="000000"/>
              </a:solidFill>
              <a:latin typeface="Calibri"/>
            </a:endParaRPr>
          </a:p>
        </p:txBody>
      </p:sp>
      <p:sp>
        <p:nvSpPr>
          <p:cNvPr id="184" name="Text Box 2"/>
          <p:cNvSpPr/>
          <p:nvPr/>
        </p:nvSpPr>
        <p:spPr>
          <a:xfrm>
            <a:off x="457200" y="1600200"/>
            <a:ext cx="8229600" cy="547380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PL min.6 days max. 120 days at a time. accumulation max. upto 270 days </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short term PL for 2 occasions in a year</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SL – 30 days (hf basis). max. 240 days accumulation. medical certificate required for sanction of SL</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joining in middle doj to 31</a:t>
            </a:r>
            <a:r>
              <a:rPr b="0" lang="en-US" sz="3200" spc="-1" strike="noStrike" baseline="30000">
                <a:solidFill>
                  <a:srgbClr val="000000"/>
                </a:solidFill>
                <a:latin typeface="Calibri"/>
                <a:ea typeface="Microsoft YaHei"/>
              </a:rPr>
              <a:t>st</a:t>
            </a:r>
            <a:r>
              <a:rPr b="0" lang="en-US" sz="3200" spc="-1" strike="noStrike">
                <a:solidFill>
                  <a:srgbClr val="000000"/>
                </a:solidFill>
                <a:latin typeface="Calibri"/>
                <a:ea typeface="Microsoft YaHei"/>
              </a:rPr>
              <a:t> dec divided by 12 = no. of days of SL credited</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3200" spc="-1" strike="noStrike">
              <a:solidFill>
                <a:srgbClr val="000000"/>
              </a:solidFill>
              <a:latin typeface="Calibri"/>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4LEAVE RULES CONTD..)</a:t>
            </a:r>
            <a:endParaRPr b="0" lang="en-US" sz="4400" spc="-1" strike="noStrike">
              <a:solidFill>
                <a:srgbClr val="000000"/>
              </a:solidFill>
              <a:latin typeface="Calibri"/>
            </a:endParaRPr>
          </a:p>
        </p:txBody>
      </p:sp>
      <p:sp>
        <p:nvSpPr>
          <p:cNvPr id="186" name="Text Box 2"/>
          <p:cNvSpPr/>
          <p:nvPr/>
        </p:nvSpPr>
        <p:spPr>
          <a:xfrm>
            <a:off x="457200" y="1600200"/>
            <a:ext cx="8229600" cy="487980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special SL </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allowed on half pay basis for 6 months</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thirteen major diseases</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all SL to be exhausted</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ML – allowed for female employees with less than 3 living children</a:t>
            </a:r>
            <a:endParaRPr b="0" lang="en-US" sz="32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max. 180 days for each delivery and max. 12 months in service (incl. miscarriage leave)</a:t>
            </a:r>
            <a:endParaRPr b="0" lang="en-US" sz="2800" spc="-1" strike="noStrike">
              <a:solidFill>
                <a:srgbClr val="000000"/>
              </a:solidFill>
              <a:latin typeface="Calibri"/>
            </a:endParaRPr>
          </a:p>
          <a:p>
            <a:pPr marL="338040" indent="-338040">
              <a:lnSpc>
                <a:spcPct val="100000"/>
              </a:lnSpc>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800" spc="-1" strike="noStrike">
              <a:solidFill>
                <a:srgbClr val="000000"/>
              </a:solidFill>
              <a:latin typeface="Calibri"/>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1"/>
          <p:cNvSpPr/>
          <p:nvPr/>
        </p:nvSpPr>
        <p:spPr>
          <a:xfrm>
            <a:off x="457200" y="130320"/>
            <a:ext cx="8229600" cy="143172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5LEAVE RULES(CONTD)</a:t>
            </a:r>
            <a:br>
              <a:rPr sz="4400"/>
            </a:br>
            <a:endParaRPr b="0" lang="en-US" sz="4400" spc="-1" strike="noStrike">
              <a:solidFill>
                <a:srgbClr val="000000"/>
              </a:solidFill>
              <a:latin typeface="Calibri"/>
            </a:endParaRPr>
          </a:p>
        </p:txBody>
      </p:sp>
      <p:sp>
        <p:nvSpPr>
          <p:cNvPr id="188" name="Text Box 2"/>
          <p:cNvSpPr/>
          <p:nvPr/>
        </p:nvSpPr>
        <p:spPr>
          <a:xfrm>
            <a:off x="457200" y="1600200"/>
            <a:ext cx="8305920" cy="502920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miscarriage leave can be granted only if employee is entitled for ML (miscarriage means expulsion between 12 to 26 weeks)</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max. 6 weeks. </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adoption leave – 2 months. allowed for female employee without child</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child is below one year of age</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3200" spc="-1" strike="noStrike">
              <a:solidFill>
                <a:srgbClr val="000000"/>
              </a:solidFill>
              <a:latin typeface="Calibri"/>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
          <p:cNvSpPr/>
          <p:nvPr/>
        </p:nvSpPr>
        <p:spPr>
          <a:xfrm>
            <a:off x="457200" y="130320"/>
            <a:ext cx="8229600" cy="143172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6LEAVE RULES</a:t>
            </a:r>
            <a:br>
              <a:rPr sz="4400"/>
            </a:br>
            <a:endParaRPr b="0" lang="en-US" sz="4400" spc="-1" strike="noStrike">
              <a:solidFill>
                <a:srgbClr val="000000"/>
              </a:solidFill>
              <a:latin typeface="Calibri"/>
            </a:endParaRPr>
          </a:p>
        </p:txBody>
      </p:sp>
      <p:sp>
        <p:nvSpPr>
          <p:cNvPr id="19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8000"/>
          </a:bodyPr>
          <a:p>
            <a:pPr marL="331200" indent="-33120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exam leave for insurance/ca/icwa/actuaries/london institute/mba.</a:t>
            </a:r>
            <a:endParaRPr b="0" lang="en-US" sz="3200" spc="-1" strike="noStrike">
              <a:solidFill>
                <a:srgbClr val="000000"/>
              </a:solidFill>
              <a:latin typeface="Calibri"/>
            </a:endParaRPr>
          </a:p>
          <a:p>
            <a:pPr marL="331200" indent="-33120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allowed for date of exam and min. journey time</a:t>
            </a:r>
            <a:endParaRPr b="0" lang="en-US" sz="3200" spc="-1" strike="noStrike">
              <a:solidFill>
                <a:srgbClr val="000000"/>
              </a:solidFill>
              <a:latin typeface="Calibri"/>
            </a:endParaRPr>
          </a:p>
          <a:p>
            <a:pPr marL="331200" indent="-33120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quarantine leave – allowed if family of employee suffer from quarantine disease.  employee suffering from any such disease is not eligible for quarantine leave</a:t>
            </a:r>
            <a:endParaRPr b="0" lang="en-US" sz="3200" spc="-1" strike="noStrike">
              <a:solidFill>
                <a:srgbClr val="000000"/>
              </a:solidFill>
              <a:latin typeface="Calibri"/>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7LEAVE RULES</a:t>
            </a:r>
            <a:endParaRPr b="0" lang="en-US" sz="4400" spc="-1" strike="noStrike">
              <a:solidFill>
                <a:srgbClr val="000000"/>
              </a:solidFill>
              <a:latin typeface="Calibri"/>
            </a:endParaRPr>
          </a:p>
        </p:txBody>
      </p:sp>
      <p:sp>
        <p:nvSpPr>
          <p:cNvPr id="19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special leave</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6 days for vasectomy/salpingectomy</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14 days for female employee puerperal and non puerperal sterilisation</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1 day – iucd insertion</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15 days camp duty for home guards</a:t>
            </a:r>
            <a:endParaRPr b="0" lang="en-US" sz="3200" spc="-1" strike="noStrike">
              <a:solidFill>
                <a:srgbClr val="000000"/>
              </a:solidFill>
              <a:latin typeface="Calibri"/>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8LEAVE RULES</a:t>
            </a:r>
            <a:endParaRPr b="0" lang="en-US" sz="4400" spc="-1" strike="noStrike">
              <a:solidFill>
                <a:srgbClr val="000000"/>
              </a:solidFill>
              <a:latin typeface="Calibri"/>
            </a:endParaRPr>
          </a:p>
        </p:txBody>
      </p:sp>
      <p:sp>
        <p:nvSpPr>
          <p:cNvPr id="19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30 days for sports national or international level</a:t>
            </a:r>
            <a:r>
              <a:rPr b="0" lang="en-US" sz="2800" spc="-1" strike="noStrike">
                <a:solidFill>
                  <a:srgbClr val="000000"/>
                </a:solidFill>
                <a:latin typeface="Calibri"/>
                <a:ea typeface="Microsoft YaHei"/>
              </a:rPr>
              <a:t>(incl.mounteneering</a:t>
            </a:r>
            <a:r>
              <a:rPr b="0" lang="en-US" sz="3200" spc="-1" strike="noStrike">
                <a:solidFill>
                  <a:srgbClr val="000000"/>
                </a:solidFill>
                <a:latin typeface="Calibri"/>
                <a:ea typeface="Microsoft YaHei"/>
              </a:rPr>
              <a:t>)</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10 days for local sports event</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participation includes referee/umpire not managers/office bearers</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25 days for republic day parade</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blood donation – 10 days in a year</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14 days for territorial army</a:t>
            </a:r>
            <a:endParaRPr b="0" lang="en-US" sz="3200" spc="-1" strike="noStrike">
              <a:solidFill>
                <a:srgbClr val="000000"/>
              </a:solidFill>
              <a:latin typeface="Calibri"/>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52280"/>
            <a:ext cx="8229600" cy="59738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Paternity leave – male employee having less than 2 living children may be granted 15 days leave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Leave can be availed during confinement of his wife, commencing 15 days before and ending 6 months after date of delivery.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an be availed for adoption of child less than 1 year.  Can be combined with any other leave except CL</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9. LEAVE ON LOSS OF PAY</a:t>
            </a:r>
            <a:endParaRPr b="0" lang="en-US" sz="4400" spc="-1" strike="noStrike">
              <a:solidFill>
                <a:srgbClr val="000000"/>
              </a:solidFill>
              <a:latin typeface="Calibri"/>
            </a:endParaRPr>
          </a:p>
        </p:txBody>
      </p:sp>
      <p:sp>
        <p:nvSpPr>
          <p:cNvPr id="197" name="Text Box 2"/>
          <p:cNvSpPr/>
          <p:nvPr/>
        </p:nvSpPr>
        <p:spPr>
          <a:xfrm>
            <a:off x="457200" y="1417680"/>
            <a:ext cx="8305920" cy="4948200"/>
          </a:xfrm>
          <a:prstGeom prst="rect">
            <a:avLst/>
          </a:prstGeom>
          <a:noFill/>
          <a:ln w="0">
            <a:noFill/>
          </a:ln>
        </p:spPr>
        <p:style>
          <a:lnRef idx="0"/>
          <a:fillRef idx="0"/>
          <a:effectRef idx="0"/>
          <a:fontRef idx="minor"/>
        </p:style>
        <p:txBody>
          <a:bodyPr lIns="90000" rIns="90000" tIns="46800" bIns="46800" anchor="t">
            <a:normAutofit fontScale="96000"/>
          </a:bodyPr>
          <a:p>
            <a:pPr marL="324360" indent="-32436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can be granted when no leave is due</a:t>
            </a:r>
            <a:endParaRPr b="0" lang="en-US" sz="3200" spc="-1" strike="noStrike">
              <a:solidFill>
                <a:srgbClr val="000000"/>
              </a:solidFill>
              <a:latin typeface="Calibri"/>
            </a:endParaRPr>
          </a:p>
          <a:p>
            <a:pPr marL="324360" indent="-32436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upto 90 days – reg. chief, upto 180 days –GM (for scale iv &amp; below) other cases - CMD</a:t>
            </a:r>
            <a:endParaRPr b="0" lang="en-US" sz="3200" spc="-1" strike="noStrike">
              <a:solidFill>
                <a:srgbClr val="000000"/>
              </a:solidFill>
              <a:latin typeface="Calibri"/>
            </a:endParaRPr>
          </a:p>
          <a:p>
            <a:pPr marL="324360" indent="-324360">
              <a:lnSpc>
                <a:spcPct val="100000"/>
              </a:lnSpc>
              <a:spcBef>
                <a:spcPts val="601"/>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400" spc="-1" strike="noStrike">
                <a:solidFill>
                  <a:srgbClr val="000000"/>
                </a:solidFill>
                <a:latin typeface="Calibri"/>
                <a:ea typeface="Microsoft YaHei"/>
              </a:rPr>
              <a:t>lop will postpone the increment</a:t>
            </a:r>
            <a:endParaRPr b="0" lang="en-US" sz="2400" spc="-1" strike="noStrike">
              <a:solidFill>
                <a:srgbClr val="000000"/>
              </a:solidFill>
              <a:latin typeface="Calibri"/>
            </a:endParaRPr>
          </a:p>
          <a:p>
            <a:pPr marL="324360" indent="-32436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study leave – one year max. for doing management and allied subjects</a:t>
            </a:r>
            <a:endParaRPr b="0" lang="en-US" sz="3200" spc="-1" strike="noStrike">
              <a:solidFill>
                <a:srgbClr val="000000"/>
              </a:solidFill>
              <a:latin typeface="Calibri"/>
            </a:endParaRPr>
          </a:p>
          <a:p>
            <a:pPr marL="324360" indent="-32436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min. 5 years of service should have been completed in the company</a:t>
            </a:r>
            <a:endParaRPr b="0" lang="en-US" sz="2800" spc="-1" strike="noStrike">
              <a:solidFill>
                <a:srgbClr val="000000"/>
              </a:solidFill>
              <a:latin typeface="Calibri"/>
            </a:endParaRPr>
          </a:p>
          <a:p>
            <a:pPr marL="324360" indent="-32436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CMD is the competent authority</a:t>
            </a:r>
            <a:endParaRPr b="0" lang="en-US" sz="2800" spc="-1" strike="noStrike">
              <a:solidFill>
                <a:srgbClr val="000000"/>
              </a:solidFill>
              <a:latin typeface="Calibri"/>
            </a:endParaRPr>
          </a:p>
          <a:p>
            <a:pPr marL="324360" indent="-32436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not applicable to scs staff</a:t>
            </a:r>
            <a:endParaRPr b="0" lang="en-US" sz="2800" spc="-1" strike="noStrike">
              <a:solidFill>
                <a:srgbClr val="000000"/>
              </a:solidFill>
              <a:latin typeface="Calibri"/>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1"/>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3. TRAVEL RULES</a:t>
            </a:r>
            <a:endParaRPr b="0" lang="en-US" sz="4400" spc="-1" strike="noStrike">
              <a:solidFill>
                <a:srgbClr val="000000"/>
              </a:solidFill>
              <a:latin typeface="Calibri"/>
            </a:endParaRPr>
          </a:p>
        </p:txBody>
      </p:sp>
      <p:graphicFrame>
        <p:nvGraphicFramePr>
          <p:cNvPr id="199" name=""/>
          <p:cNvGraphicFramePr/>
          <p:nvPr/>
        </p:nvGraphicFramePr>
        <p:xfrm>
          <a:off x="457200" y="914400"/>
          <a:ext cx="8258040" cy="5821200"/>
        </p:xfrm>
        <a:graphic>
          <a:graphicData uri="http://schemas.openxmlformats.org/drawingml/2006/table">
            <a:tbl>
              <a:tblPr/>
              <a:tblGrid>
                <a:gridCol w="3505320"/>
                <a:gridCol w="1600200"/>
                <a:gridCol w="3152520"/>
              </a:tblGrid>
              <a:tr h="40320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CADR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MOD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CLAS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a9d18e"/>
                    </a:solidFill>
                  </a:tcPr>
                </a:tc>
              </a:tr>
              <a:tr h="40500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SCALE V,VI, VII</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AIR/TRAIN</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ECONOMY/I AC</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a9d18e"/>
                    </a:solidFill>
                  </a:tcPr>
                </a:tc>
              </a:tr>
              <a:tr h="40320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SCALE IV</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AIR/RAI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ECONOMY/II AC</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161748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SCALE I II III</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RAI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IIA/C IN </a:t>
                      </a:r>
                      <a:r>
                        <a:rPr b="0" lang="en-US" sz="1600" spc="-1" strike="noStrike">
                          <a:solidFill>
                            <a:srgbClr val="000000"/>
                          </a:solidFill>
                          <a:latin typeface="Calibri"/>
                          <a:ea typeface="Microsoft YaHei"/>
                        </a:rPr>
                        <a:t>RAJDHANI &amp; II AC OR I CLASS, NOT TO EXCEED 125% OF RAIL FARE IF AIR TRAVEL IS MADE, BY AIR IF SURFACE DISTANCE IS BEYOND 1000 KMS (FOR SC II AND III ONLY)</a:t>
                      </a:r>
                      <a:endParaRPr b="0" lang="en-US" sz="16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70632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CLERICAL – BASIC 36440  AND ABOV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RAI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II AC/I CLASS/3</a:t>
                      </a:r>
                      <a:r>
                        <a:rPr b="0" lang="en-US" sz="1800" spc="-1" strike="noStrike" baseline="30000">
                          <a:solidFill>
                            <a:srgbClr val="000000"/>
                          </a:solidFill>
                          <a:latin typeface="Calibri"/>
                          <a:ea typeface="Microsoft YaHei"/>
                        </a:rPr>
                        <a:t>RD</a:t>
                      </a:r>
                      <a:r>
                        <a:rPr b="0" lang="en-US" sz="1800" spc="-1" strike="noStrike">
                          <a:solidFill>
                            <a:srgbClr val="000000"/>
                          </a:solidFill>
                          <a:latin typeface="Calibri"/>
                          <a:ea typeface="Microsoft YaHei"/>
                        </a:rPr>
                        <a:t> AC IN RAJDHANI</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127476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BASIC BELOW 36440</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RAI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II CLASS. CLERICAL EMPLOYEES PERMITTED TO GO BY I CLASS/II AC WHERE NIGHT JOURNEY IS INVOLVED</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101124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TOUR STARTS FROM SCHEDULED DEPARTURE TIM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52280" y="151920"/>
            <a:ext cx="8839440" cy="66294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cting in a manner prejudicial to the interest of the compan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ilful insubordination or disobedienc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bsence without leave or over-staying sanctioned leave – </a:t>
            </a:r>
            <a:r>
              <a:rPr b="1" lang="en-US" sz="2400" spc="-1" strike="noStrike" u="sng">
                <a:solidFill>
                  <a:srgbClr val="000000"/>
                </a:solidFill>
                <a:uFillTx/>
                <a:latin typeface="Calibri"/>
              </a:rPr>
              <a:t>for more than 4 consequetive days</a:t>
            </a:r>
            <a:r>
              <a:rPr b="0" lang="en-US" sz="2400" spc="-1" strike="noStrike">
                <a:solidFill>
                  <a:srgbClr val="000000"/>
                </a:solidFill>
                <a:latin typeface="Calibri"/>
              </a:rPr>
              <a:t> without sufficient grounds or proper satisfactory explanation</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habitual late or irregular attendanc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eglect of work or negligence in the performance of duty including malingering or slowing down of work</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amage to any property of compan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nterference or tampering with any safety device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runkenness or riotous or disorderly or indecent behaviour in the premise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gambling</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llection without the permission of the competent authoiry</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1"/>
          <p:cNvSpPr/>
          <p:nvPr/>
        </p:nvSpPr>
        <p:spPr>
          <a:xfrm>
            <a:off x="457200" y="0"/>
            <a:ext cx="8229600" cy="70956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3.2 TRAVEL RULES</a:t>
            </a:r>
            <a:endParaRPr b="0" lang="en-US" sz="4400" spc="-1" strike="noStrike">
              <a:solidFill>
                <a:srgbClr val="000000"/>
              </a:solidFill>
              <a:latin typeface="Calibri"/>
            </a:endParaRPr>
          </a:p>
        </p:txBody>
      </p:sp>
      <p:graphicFrame>
        <p:nvGraphicFramePr>
          <p:cNvPr id="201" name=""/>
          <p:cNvGraphicFramePr/>
          <p:nvPr/>
        </p:nvGraphicFramePr>
        <p:xfrm>
          <a:off x="457200" y="762120"/>
          <a:ext cx="8231040" cy="6662520"/>
        </p:xfrm>
        <a:graphic>
          <a:graphicData uri="http://schemas.openxmlformats.org/drawingml/2006/table">
            <a:tbl>
              <a:tblPr/>
              <a:tblGrid>
                <a:gridCol w="2743200"/>
                <a:gridCol w="2744640"/>
                <a:gridCol w="2743200"/>
              </a:tblGrid>
              <a:tr h="37944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PARTICULAR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CADR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LIMIT</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a9d18e"/>
                    </a:solidFill>
                  </a:tcPr>
                </a:tc>
              </a:tr>
              <a:tr h="66348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CONVEYANC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OFFICER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ACTUALS –RES TO STATION TO AND FRO</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a9d18e"/>
                    </a:solidFill>
                  </a:tcPr>
                </a:tc>
              </a:tr>
              <a:tr h="66348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CLERICA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RESTRICTED TO HALT. ALLOWANCE FOR ‘C” CLAS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121284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INCIDENTIA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OFFICER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MAX. HALF OF ‘C’ CLASS FOR EACH COMP. JOURNEY. ONE INCIDENTAL PER CALENDER DAY</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37944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CLERICA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NO</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66420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HALTING ALLOWANC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12 HOURS AND ABOVE </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100%</a:t>
                      </a:r>
                      <a:endParaRPr b="0" lang="en-US" sz="1800" spc="-1" strike="noStrike">
                        <a:solidFill>
                          <a:srgbClr val="000000"/>
                        </a:solidFill>
                        <a:latin typeface="Calibri"/>
                      </a:endParaRPr>
                    </a:p>
                    <a:p>
                      <a:pPr>
                        <a:lnSpc>
                          <a:spcPct val="10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109872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Calibri"/>
                          <a:ea typeface="Microsoft YaHei"/>
                        </a:rPr>
                        <a:t>FREE B/L- 25%; FREE B- 50% FREE LODGING – 75% IS ADMISSIBLE</a:t>
                      </a:r>
                      <a:endParaRPr b="0" lang="en-US" sz="1600" spc="-1" strike="noStrike">
                        <a:solidFill>
                          <a:srgbClr val="000000"/>
                        </a:solidFill>
                        <a:latin typeface="Calibri"/>
                      </a:endParaRPr>
                    </a:p>
                    <a:p>
                      <a:pPr>
                        <a:lnSpc>
                          <a:spcPct val="10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6 HOURS TO 12 HOUR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50%</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65232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LESS THAN 6 HOURS  </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30%</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94860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BREAK FAST</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OFFICERS – ACTUAL CLERICAL – (HOTEL CHARGE INCL. B/F</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bl>
          </a:graphicData>
        </a:graphic>
      </p:graphicFrame>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1"/>
          <p:cNvSpPr/>
          <p:nvPr/>
        </p:nvSpPr>
        <p:spPr>
          <a:xfrm>
            <a:off x="457200" y="0"/>
            <a:ext cx="8229600" cy="76212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3.3. TRAVEL RULES</a:t>
            </a:r>
            <a:endParaRPr b="0" lang="en-US" sz="4400" spc="-1" strike="noStrike">
              <a:solidFill>
                <a:srgbClr val="000000"/>
              </a:solidFill>
              <a:latin typeface="Calibri"/>
            </a:endParaRPr>
          </a:p>
        </p:txBody>
      </p:sp>
      <p:sp>
        <p:nvSpPr>
          <p:cNvPr id="203" name="Text Box 2"/>
          <p:cNvSpPr/>
          <p:nvPr/>
        </p:nvSpPr>
        <p:spPr>
          <a:xfrm>
            <a:off x="228600" y="685800"/>
            <a:ext cx="8763120" cy="617220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400" spc="-1" strike="noStrike">
                <a:solidFill>
                  <a:srgbClr val="000000"/>
                </a:solidFill>
                <a:latin typeface="Calibri"/>
                <a:ea typeface="Microsoft YaHei"/>
              </a:rPr>
              <a:t>ON TRAINING – UPTO 180 DAYS – FULL RATE BEYOND THAT HALF RATE</a:t>
            </a:r>
            <a:endParaRPr b="0" lang="en-US" sz="24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000" spc="-1" strike="noStrike">
                <a:solidFill>
                  <a:srgbClr val="000000"/>
                </a:solidFill>
                <a:latin typeface="Calibri"/>
                <a:ea typeface="Microsoft YaHei"/>
              </a:rPr>
              <a:t>HALTING ALLOWANCE REVISED FROM 05/01/2017</a:t>
            </a:r>
            <a:endParaRPr b="0" lang="en-US" sz="2000" spc="-1" strike="noStrike">
              <a:solidFill>
                <a:srgbClr val="000000"/>
              </a:solidFill>
              <a:latin typeface="Calibri"/>
            </a:endParaRPr>
          </a:p>
          <a:p>
            <a:pPr marL="338040" indent="-338040">
              <a:lnSpc>
                <a:spcPct val="100000"/>
              </a:lnSpc>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800" spc="-1" strike="noStrike">
              <a:solidFill>
                <a:srgbClr val="000000"/>
              </a:solidFill>
              <a:latin typeface="Calibri"/>
            </a:endParaRPr>
          </a:p>
          <a:p>
            <a:pPr marL="338040" indent="-338040">
              <a:lnSpc>
                <a:spcPct val="100000"/>
              </a:lnSpc>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800" spc="-1" strike="noStrike">
              <a:solidFill>
                <a:srgbClr val="000000"/>
              </a:solidFill>
              <a:latin typeface="Calibri"/>
            </a:endParaRPr>
          </a:p>
          <a:p>
            <a:pPr marL="338040" indent="-338040">
              <a:lnSpc>
                <a:spcPct val="100000"/>
              </a:lnSpc>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800" spc="-1" strike="noStrike">
              <a:solidFill>
                <a:srgbClr val="000000"/>
              </a:solidFill>
              <a:latin typeface="Calibri"/>
            </a:endParaRPr>
          </a:p>
          <a:p>
            <a:pPr marL="338040" indent="-338040">
              <a:lnSpc>
                <a:spcPct val="100000"/>
              </a:lnSpc>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4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0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000" spc="-1" strike="noStrike">
                <a:solidFill>
                  <a:srgbClr val="000000"/>
                </a:solidFill>
                <a:latin typeface="Calibri"/>
                <a:ea typeface="Microsoft YaHei"/>
              </a:rPr>
              <a:t>ON TOUR- IF CL-NO H.A, IF SICK LEAVE – NO H.A,RETURN JOURNEY FARE ALLOWED</a:t>
            </a:r>
            <a:endParaRPr b="0" lang="en-US" sz="2000" spc="-1" strike="noStrike">
              <a:solidFill>
                <a:srgbClr val="000000"/>
              </a:solidFill>
              <a:latin typeface="Calibri"/>
            </a:endParaRPr>
          </a:p>
          <a:p>
            <a:pPr marL="338040" indent="-338040">
              <a:lnSpc>
                <a:spcPct val="100000"/>
              </a:lnSpc>
              <a:spcBef>
                <a:spcPts val="601"/>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000" spc="-1" strike="noStrike">
                <a:solidFill>
                  <a:srgbClr val="000000"/>
                </a:solidFill>
                <a:latin typeface="Calibri"/>
                <a:ea typeface="Microsoft YaHei"/>
              </a:rPr>
              <a:t>LOK ADALAT RS.1000/- AT THE PLACE OF POSTING,OTHER PLACES T.A,D.A ALLOWED + 500/- OUT OF POCKET EXPENSES</a:t>
            </a:r>
            <a:endParaRPr b="0" lang="en-US" sz="2000" spc="-1" strike="noStrike">
              <a:solidFill>
                <a:srgbClr val="000000"/>
              </a:solidFill>
              <a:latin typeface="Calibri"/>
            </a:endParaRPr>
          </a:p>
          <a:p>
            <a:pPr marL="338040" indent="-338040">
              <a:lnSpc>
                <a:spcPct val="100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000" spc="-1" strike="noStrike">
              <a:solidFill>
                <a:srgbClr val="000000"/>
              </a:solidFill>
              <a:latin typeface="Calibri"/>
            </a:endParaRPr>
          </a:p>
        </p:txBody>
      </p:sp>
      <p:pic>
        <p:nvPicPr>
          <p:cNvPr id="204" name="Picture 2" descr=""/>
          <p:cNvPicPr/>
          <p:nvPr/>
        </p:nvPicPr>
        <p:blipFill>
          <a:blip r:embed="rId1"/>
          <a:stretch/>
        </p:blipFill>
        <p:spPr>
          <a:xfrm>
            <a:off x="304920" y="1981080"/>
            <a:ext cx="8686800" cy="282276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304920"/>
            <a:ext cx="8229600" cy="58212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Lodging expenses w.e.f 01/01/2013</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206" name="Picture 2" descr=""/>
          <p:cNvPicPr/>
          <p:nvPr/>
        </p:nvPicPr>
        <p:blipFill>
          <a:blip r:embed="rId1"/>
          <a:stretch/>
        </p:blipFill>
        <p:spPr>
          <a:xfrm>
            <a:off x="457200" y="838080"/>
            <a:ext cx="8001000" cy="51055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1"/>
          <p:cNvSpPr/>
          <p:nvPr/>
        </p:nvSpPr>
        <p:spPr>
          <a:xfrm>
            <a:off x="457200" y="274680"/>
            <a:ext cx="8229600" cy="86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5 LEAVE ENCASHMENT</a:t>
            </a:r>
            <a:endParaRPr b="0" lang="en-US" sz="4400" spc="-1" strike="noStrike">
              <a:solidFill>
                <a:srgbClr val="000000"/>
              </a:solidFill>
              <a:latin typeface="Calibri"/>
            </a:endParaRPr>
          </a:p>
        </p:txBody>
      </p:sp>
      <p:graphicFrame>
        <p:nvGraphicFramePr>
          <p:cNvPr id="208" name=""/>
          <p:cNvGraphicFramePr/>
          <p:nvPr/>
        </p:nvGraphicFramePr>
        <p:xfrm>
          <a:off x="457200" y="1600200"/>
          <a:ext cx="8231040" cy="2465280"/>
        </p:xfrm>
        <a:graphic>
          <a:graphicData uri="http://schemas.openxmlformats.org/drawingml/2006/table">
            <a:tbl>
              <a:tblPr/>
              <a:tblGrid>
                <a:gridCol w="4116240"/>
                <a:gridCol w="4114800"/>
              </a:tblGrid>
              <a:tr h="37944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PARTICULAR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PARTS OF SALARY</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a9d18e"/>
                    </a:solidFill>
                  </a:tcPr>
                </a:tc>
              </a:tr>
              <a:tr h="37944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SERVIC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BASIC+DA+HRA+CCA+FPA</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a9d18e"/>
                    </a:solidFill>
                  </a:tcPr>
                </a:tc>
              </a:tr>
              <a:tr h="66348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RETIREMENT</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BASIC+DA+FPA</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66348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DEATH</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BASIC +DA+HRA+CCA+FPA</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379440">
                <a:tc gridSpan="2">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ALLOWED ONCE IN  A BLOCK OF 2 YEARS. 15 DAYS CAN BE ENCASHED</a:t>
                      </a:r>
                      <a:endParaRPr b="0" lang="en-US" sz="1800" spc="-1" strike="noStrike">
                        <a:solidFill>
                          <a:srgbClr val="000000"/>
                        </a:solidFill>
                        <a:latin typeface="Calibri"/>
                      </a:endParaRPr>
                    </a:p>
                  </a:txBody>
                  <a:tcPr anchor="t" marL="90000" marR="90000">
                    <a:lnL w="720">
                      <a:solidFill>
                        <a:srgbClr val="ffffff"/>
                      </a:solidFill>
                    </a:lnL>
                    <a:lnR>
                      <a:noFill/>
                    </a:lnR>
                    <a:lnT w="720">
                      <a:solidFill>
                        <a:srgbClr val="ffffff"/>
                      </a:solidFill>
                    </a:lnT>
                    <a:lnB w="720">
                      <a:solidFill>
                        <a:srgbClr val="ffffff"/>
                      </a:solidFill>
                    </a:lnB>
                    <a:solidFill>
                      <a:srgbClr val="a9d18e"/>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209" name="TextBox 1"/>
          <p:cNvSpPr/>
          <p:nvPr/>
        </p:nvSpPr>
        <p:spPr>
          <a:xfrm>
            <a:off x="457200" y="4495680"/>
            <a:ext cx="6781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ll employees – Even-Odd ye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L encashment – 240 days only</a:t>
            </a:r>
            <a:endParaRPr b="0" lang="en-US" sz="1800" spc="-1" strike="noStrike">
              <a:solidFill>
                <a:srgbClr val="000000"/>
              </a:solidFill>
              <a:latin typeface="Calibri"/>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6.1 LTS</a:t>
            </a:r>
            <a:endParaRPr b="0" lang="en-US" sz="4400" spc="-1" strike="noStrike">
              <a:solidFill>
                <a:srgbClr val="000000"/>
              </a:solidFill>
              <a:latin typeface="Calibri"/>
            </a:endParaRPr>
          </a:p>
        </p:txBody>
      </p:sp>
      <p:sp>
        <p:nvSpPr>
          <p:cNvPr id="211" name="Text Box 2"/>
          <p:cNvSpPr/>
          <p:nvPr/>
        </p:nvSpPr>
        <p:spPr>
          <a:xfrm>
            <a:off x="457200" y="1600200"/>
            <a:ext cx="8229600" cy="547380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For confirmed employees only</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Officers  odd year to even year</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For clerical –even to odd year</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Employee,spouse,dependant children and dependant parents are eligible</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Once a block of 2 years. 3000km each way.For home town no limit.</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Entitled mode of journey as per tour</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3200" spc="-1" strike="noStrike">
              <a:solidFill>
                <a:srgbClr val="000000"/>
              </a:solidFill>
              <a:latin typeface="Calibri"/>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6.2 LTS CONTINUED</a:t>
            </a:r>
            <a:endParaRPr b="0" lang="en-US" sz="4400" spc="-1" strike="noStrike">
              <a:solidFill>
                <a:srgbClr val="000000"/>
              </a:solidFill>
              <a:latin typeface="Calibri"/>
            </a:endParaRPr>
          </a:p>
        </p:txBody>
      </p:sp>
      <p:sp>
        <p:nvSpPr>
          <p:cNvPr id="213" name="Text Box 2"/>
          <p:cNvSpPr/>
          <p:nvPr/>
        </p:nvSpPr>
        <p:spPr>
          <a:xfrm>
            <a:off x="457200" y="1219320"/>
            <a:ext cx="8229600" cy="541008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One block can be carried forward to next block- clubbing of two blocks allowed</a:t>
            </a:r>
            <a:endParaRPr b="0" lang="en-US" sz="28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Travel in two groups permitted but second group should avail in the block year in which the first group availed.Partial LTS carry forward not allowed</a:t>
            </a:r>
            <a:endParaRPr b="0" lang="en-US" sz="28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Officers transferred to  N.E Region-LTS every year allowed</a:t>
            </a:r>
            <a:endParaRPr b="0" lang="en-US" sz="28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Extension of LTS facility for retired employees – not beyond 6 months. Should inform before retirement to avail this facility</a:t>
            </a:r>
            <a:endParaRPr b="0" lang="en-US" sz="2800" spc="-1" strike="noStrike">
              <a:solidFill>
                <a:srgbClr val="000000"/>
              </a:solidFill>
              <a:latin typeface="Calibri"/>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1"/>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ctr">
            <a:normAutofit fontScale="81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LTS CONTINUED</a:t>
            </a:r>
            <a:endParaRPr b="0" lang="en-US" sz="4400" spc="-1" strike="noStrike">
              <a:solidFill>
                <a:srgbClr val="000000"/>
              </a:solidFill>
              <a:latin typeface="Calibri"/>
            </a:endParaRPr>
          </a:p>
        </p:txBody>
      </p:sp>
      <p:sp>
        <p:nvSpPr>
          <p:cNvPr id="215" name="Text Box 2"/>
          <p:cNvSpPr/>
          <p:nvPr/>
        </p:nvSpPr>
        <p:spPr>
          <a:xfrm>
            <a:off x="457200" y="914400"/>
            <a:ext cx="8077320" cy="5638680"/>
          </a:xfrm>
          <a:prstGeom prst="rect">
            <a:avLst/>
          </a:prstGeom>
          <a:noFill/>
          <a:ln w="0">
            <a:noFill/>
          </a:ln>
        </p:spPr>
        <p:style>
          <a:lnRef idx="0"/>
          <a:fillRef idx="0"/>
          <a:effectRef idx="0"/>
          <a:fontRef idx="minor"/>
        </p:style>
        <p:txBody>
          <a:bodyPr lIns="90000" rIns="90000" tIns="46800" bIns="46800" anchor="t">
            <a:normAutofit/>
          </a:bodyPr>
          <a:p>
            <a:pPr marL="338040" indent="-338040" algn="just">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000" spc="-1" strike="noStrike">
                <a:solidFill>
                  <a:srgbClr val="000000"/>
                </a:solidFill>
                <a:latin typeface="Calibri"/>
                <a:ea typeface="Microsoft YaHei"/>
              </a:rPr>
              <a:t>Officers who are entitled to travel by air shall be entitled for reimbursement of full air fare for 3000kms(economy class) of surface distance each way for one block subject to the ceiling of twice the eligible class standard air fare of air india for delhi-trivandrum route.  The  benchmark fare would stand revised as &amp;when air india revises its fare for the said sector</a:t>
            </a:r>
            <a:endParaRPr b="0" lang="en-US" sz="2000" spc="-1" strike="noStrike">
              <a:solidFill>
                <a:srgbClr val="000000"/>
              </a:solidFill>
              <a:latin typeface="Calibri"/>
            </a:endParaRPr>
          </a:p>
          <a:p>
            <a:pPr marL="338040" indent="-338040" algn="just">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000" spc="-1" strike="noStrike">
                <a:solidFill>
                  <a:srgbClr val="000000"/>
                </a:solidFill>
                <a:latin typeface="Calibri"/>
                <a:ea typeface="Microsoft YaHei"/>
              </a:rPr>
              <a:t>Dependency limit – rs.9000 + DR admissible thereon as per 7</a:t>
            </a:r>
            <a:r>
              <a:rPr b="0" lang="en-US" sz="2000" spc="-1" strike="noStrike" baseline="30000">
                <a:solidFill>
                  <a:srgbClr val="000000"/>
                </a:solidFill>
                <a:latin typeface="Calibri"/>
                <a:ea typeface="Microsoft YaHei"/>
              </a:rPr>
              <a:t>th</a:t>
            </a:r>
            <a:r>
              <a:rPr b="0" lang="en-US" sz="2000" spc="-1" strike="noStrike">
                <a:solidFill>
                  <a:srgbClr val="000000"/>
                </a:solidFill>
                <a:latin typeface="Calibri"/>
                <a:ea typeface="Microsoft YaHei"/>
              </a:rPr>
              <a:t> CPC (CENTRAL PAY COMMISSION). Presently 54% DR  </a:t>
            </a:r>
            <a:endParaRPr b="0" lang="en-US" sz="2000" spc="-1" strike="noStrike">
              <a:solidFill>
                <a:srgbClr val="000000"/>
              </a:solidFill>
              <a:latin typeface="Calibri"/>
            </a:endParaRPr>
          </a:p>
          <a:p>
            <a:pPr marL="338040" indent="-338040" algn="just">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400" spc="-1" strike="noStrike">
                <a:solidFill>
                  <a:srgbClr val="000000"/>
                </a:solidFill>
                <a:latin typeface="Calibri"/>
                <a:ea typeface="Microsoft YaHei"/>
              </a:rPr>
              <a:t>Tejas /vande bharat express fares allowed to employees who are entitled to travel rajdhani express</a:t>
            </a:r>
            <a:endParaRPr b="0" lang="en-US" sz="2400" spc="-1" strike="noStrike">
              <a:solidFill>
                <a:srgbClr val="000000"/>
              </a:solidFill>
              <a:latin typeface="Calibri"/>
            </a:endParaRPr>
          </a:p>
          <a:p>
            <a:pPr marL="338040" indent="-338040" algn="just">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400" spc="-1" strike="noStrike">
                <a:solidFill>
                  <a:srgbClr val="000000"/>
                </a:solidFill>
                <a:latin typeface="Calibri"/>
                <a:ea typeface="Microsoft YaHei"/>
              </a:rPr>
              <a:t>Special trains does not include luxury trains like deccan odessey, maharaja’s express, the golden chariot, royal rajasthan on wheels, palace on wheels, royal orient train, heritage on wheels, fairy queen express, etc</a:t>
            </a:r>
            <a:endParaRPr b="0" lang="en-US" sz="2400" spc="-1" strike="noStrike">
              <a:solidFill>
                <a:srgbClr val="000000"/>
              </a:solidFill>
              <a:latin typeface="Calibri"/>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4.1TRANSFER BENEFITS</a:t>
            </a:r>
            <a:endParaRPr b="0" lang="en-US" sz="4400" spc="-1" strike="noStrike">
              <a:solidFill>
                <a:srgbClr val="000000"/>
              </a:solidFill>
              <a:latin typeface="Calibri"/>
            </a:endParaRPr>
          </a:p>
        </p:txBody>
      </p:sp>
      <p:sp>
        <p:nvSpPr>
          <p:cNvPr id="217" name="Text Box 2"/>
          <p:cNvSpPr/>
          <p:nvPr/>
        </p:nvSpPr>
        <p:spPr>
          <a:xfrm>
            <a:off x="228600" y="1600200"/>
            <a:ext cx="8686800" cy="4525920"/>
          </a:xfrm>
          <a:prstGeom prst="rect">
            <a:avLst/>
          </a:prstGeom>
          <a:noFill/>
          <a:ln w="0">
            <a:noFill/>
          </a:ln>
        </p:spPr>
        <p:style>
          <a:lnRef idx="0"/>
          <a:fillRef idx="0"/>
          <a:effectRef idx="0"/>
          <a:fontRef idx="minor"/>
        </p:style>
        <p:txBody>
          <a:bodyPr lIns="90000" rIns="90000" tIns="46800" bIns="46800" anchor="t">
            <a:normAutofit/>
          </a:bodyPr>
          <a:p>
            <a:pPr marL="338040" indent="-338040" algn="just">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Employee+spouse+children+parents+dependent brothers,sisters allowed travelling allowance</a:t>
            </a:r>
            <a:endParaRPr b="0" lang="en-US" sz="2800" spc="-1" strike="noStrike">
              <a:solidFill>
                <a:srgbClr val="000000"/>
              </a:solidFill>
              <a:latin typeface="Calibri"/>
            </a:endParaRPr>
          </a:p>
          <a:p>
            <a:pPr marL="338040" indent="-338040" algn="just">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Second trip to shift family within six months from  the date of relief from the place of transfer  or date of commencement of next academic year whichever is less</a:t>
            </a: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Joining time one day for local(incl.Sat&amp;sun)</a:t>
            </a: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Six days for outstation+journey time</a:t>
            </a:r>
            <a:endParaRPr b="0" lang="en-US" sz="2800" spc="-1" strike="noStrike">
              <a:solidFill>
                <a:srgbClr val="000000"/>
              </a:solidFill>
              <a:latin typeface="Calibri"/>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4.2 TRANSFER BENEFITS</a:t>
            </a:r>
            <a:endParaRPr b="0" lang="en-US" sz="4400" spc="-1" strike="noStrike">
              <a:solidFill>
                <a:srgbClr val="000000"/>
              </a:solidFill>
              <a:latin typeface="Calibri"/>
            </a:endParaRPr>
          </a:p>
        </p:txBody>
      </p:sp>
      <p:sp>
        <p:nvSpPr>
          <p:cNvPr id="219" name="Text Box 2"/>
          <p:cNvSpPr/>
          <p:nvPr/>
        </p:nvSpPr>
        <p:spPr>
          <a:xfrm>
            <a:off x="457200" y="1600200"/>
            <a:ext cx="8458200" cy="480060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Transfer grant one month Basic plus FPA</a:t>
            </a: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Allowed whether family shifted or not</a:t>
            </a: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30 days halting allowance in lieu of housing maximum</a:t>
            </a: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Baggage allowance/mid academic allowance for officer</a:t>
            </a: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Packing charges forwarding charges </a:t>
            </a: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No incidental/no pet animals/local conveyance allowed.</a:t>
            </a: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Transport of vehicle allowed</a:t>
            </a:r>
            <a:endParaRPr b="0" lang="en-US" sz="2800" spc="-1" strike="noStrike">
              <a:solidFill>
                <a:srgbClr val="000000"/>
              </a:solidFill>
              <a:latin typeface="Calibri"/>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4.3 TRANSFER BENEFITS</a:t>
            </a:r>
            <a:endParaRPr b="0" lang="en-US" sz="4400" spc="-1" strike="noStrike">
              <a:solidFill>
                <a:srgbClr val="000000"/>
              </a:solidFill>
              <a:latin typeface="Calibri"/>
            </a:endParaRPr>
          </a:p>
        </p:txBody>
      </p:sp>
      <p:sp>
        <p:nvSpPr>
          <p:cNvPr id="22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On retirement/death</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Transfer grant/packing  </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charges/forwarding charges paid </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to be claimed within 6 months,no transfer grant for local shifting</a:t>
            </a:r>
            <a:endParaRPr b="0" lang="en-US" sz="3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228240" y="152280"/>
            <a:ext cx="8458200" cy="64008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leeping while on dut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mmission of any act which amounts to a criminal act involving moral turpitude (conduct that is considered contrary to community standards of justice, honesty or good morals eg., forgery, robbery, etc)</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bsence from the employee’s appointed place of work without permission or sufficient caus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moking within the premises of the establishment where it is prohibited</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urchasing properties, machineries, stores, etc from or selling properties, machineries, stores, etc to the company without express permission in writing from the competent authorit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mmission of any act subversive of discipline or of good behaviour</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Content Placeholder 2"/>
          <p:cNvSpPr/>
          <p:nvPr/>
        </p:nvSpPr>
        <p:spPr>
          <a:xfrm>
            <a:off x="152280" y="228600"/>
            <a:ext cx="8763120" cy="632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ransportation of goods by road</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Scale IV and above – Actual expenses subject to 120 quintals by goods trai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Scale I to III – Actual expenses subject to 90 quintals by goods train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ransportation of goods by Rail</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cale VI and VII – Full 4 wheeler wagon or 60 quintals by goods train or 1 double containe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cale IV and V - Full 4 wheeler wagon or 60 quintals by goods train or 1 single containe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cale I to III – 40 quintals by goods trai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ncilliary expenses –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acking charges / loading and unloading expenses and incidental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Scale IV and above – Rs.16000, Scale I to III – Rs.12000 and other than Class I Officers – Rs.8000</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Content Placeholder 2"/>
          <p:cNvSpPr/>
          <p:nvPr/>
        </p:nvSpPr>
        <p:spPr>
          <a:xfrm>
            <a:off x="457200" y="304920"/>
            <a:ext cx="8229600" cy="5821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imbursement of local shifting expenses</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Limit – Maxium 60 Kms</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Scale IV and above – Rs.20000</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Scale I to III – Rs.15000</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Other than Officers – Rs.10000</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ifting within the same compound – 25% of the above limit</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5960"/>
            <a:ext cx="8229600" cy="5331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Calibri Light"/>
              </a:rPr>
              <a:t>LOANS AND ADVANCES</a:t>
            </a:r>
            <a:endParaRPr b="0" lang="en-US" sz="3000" spc="-1" strike="noStrike">
              <a:solidFill>
                <a:srgbClr val="000000"/>
              </a:solidFill>
              <a:latin typeface="Calibri Light"/>
            </a:endParaRPr>
          </a:p>
        </p:txBody>
      </p:sp>
      <p:sp>
        <p:nvSpPr>
          <p:cNvPr id="225" name=""/>
          <p:cNvSpPr txBox="1"/>
          <p:nvPr/>
        </p:nvSpPr>
        <p:spPr>
          <a:xfrm>
            <a:off x="457200" y="837720"/>
            <a:ext cx="8229600" cy="52880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Vehicle Loan – </a:t>
            </a:r>
            <a:endParaRPr b="0" lang="en-US" sz="21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ligibility – Minimum 3 years service, once in 7 years not more than 3 such loan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fficers on Administrative side – Rs.75000 for two wheeler</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lass III &amp; IV including DO (A) – Rs.75000 for two wheeler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ate of interest – 5%</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payment – 60 equal installment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ur wheeler loan for Scale I &amp; II – Rs.2.5 lakhs – Upto Rs.1 lakh – 5% interest and 7.5% for balance amoun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r Scale III &amp; IV – Rs.4.5 lakh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payment – 120 equal installments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5960"/>
            <a:ext cx="8229600" cy="6094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Housing Loan</a:t>
            </a:r>
            <a:endParaRPr b="0" lang="en-US" sz="3300" spc="-1" strike="noStrike">
              <a:solidFill>
                <a:srgbClr val="000000"/>
              </a:solidFill>
              <a:latin typeface="Calibri Light"/>
            </a:endParaRPr>
          </a:p>
        </p:txBody>
      </p:sp>
      <p:sp>
        <p:nvSpPr>
          <p:cNvPr id="227" name=""/>
          <p:cNvSpPr txBox="1"/>
          <p:nvPr/>
        </p:nvSpPr>
        <p:spPr>
          <a:xfrm>
            <a:off x="457200" y="762120"/>
            <a:ext cx="8229600" cy="586728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228" name="Picture 2" descr=""/>
          <p:cNvPicPr/>
          <p:nvPr/>
        </p:nvPicPr>
        <p:blipFill>
          <a:blip r:embed="rId1"/>
          <a:stretch/>
        </p:blipFill>
        <p:spPr>
          <a:xfrm>
            <a:off x="152280" y="701640"/>
            <a:ext cx="8839440" cy="592776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151920" y="228600"/>
            <a:ext cx="8534520" cy="64008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Housing loan on 3 occasions – first, second and second loan second tim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nterest – 5% for scheme loan and 7.5% for supplementary loan.  If not self occupied – additional 2.5% charged on scheme loan</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inimum 3 years servic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payment – Equal monthly installments or maximum 30 years of service whichever is les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f employee has less than 15 years of service, he has the option of paying only the interest portion and principal amount will be deducted from his terminal due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reclosure is permitted</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erm Insurance policy / Mortgage redemption policy included as collateral secur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3300" spc="-1" strike="noStrike">
                <a:solidFill>
                  <a:srgbClr val="000000"/>
                </a:solidFill>
                <a:latin typeface="Calibri Light"/>
              </a:rPr>
              <a:t>Housing Loan – Second Loan</a:t>
            </a:r>
            <a:endParaRPr b="0" lang="en-US" sz="3300" spc="-1" strike="noStrike">
              <a:solidFill>
                <a:srgbClr val="000000"/>
              </a:solidFill>
              <a:latin typeface="Calibri Light"/>
            </a:endParaRPr>
          </a:p>
        </p:txBody>
      </p:sp>
      <p:sp>
        <p:nvSpPr>
          <p:cNvPr id="231" name=""/>
          <p:cNvSpPr txBox="1"/>
          <p:nvPr/>
        </p:nvSpPr>
        <p:spPr>
          <a:xfrm>
            <a:off x="628560" y="1825200"/>
            <a:ext cx="7886880" cy="435132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Second Loan under Housing Loan Scheme for renovation or transfer of existing loan or acquiring second property subject to</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 </a:t>
            </a:r>
            <a:r>
              <a:rPr b="0" lang="en-IN" sz="2400" spc="-1" strike="noStrike">
                <a:solidFill>
                  <a:srgbClr val="000000"/>
                </a:solidFill>
                <a:latin typeface="Calibri"/>
              </a:rPr>
              <a:t>(a) not more than twice during the entire service, </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b) applicable to both the properties</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Quantum – Employees current cadre eligibility for scheme loan minus scheme loan already sanctioned and current cadre eligibility of supplementary loan minus supplementary loan already sanctioned but not exceeding the actual cost.</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Scheme + Supp loan sanctioned earlier + current second loan to be sanctioned shall not exceed current cadre eligibil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837720"/>
            <a:ext cx="8229600" cy="17528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Light"/>
              </a:rPr>
              <a:t>Wherever employees availed education loan, the eligible amount of housing loan stands reduced to the extent of outstanding balance of the education loan.</a:t>
            </a:r>
            <a:br>
              <a:rPr sz="1800"/>
            </a:br>
            <a:br>
              <a:rPr sz="1800"/>
            </a:br>
            <a:r>
              <a:rPr b="0" lang="en-IN" sz="1800" spc="-1" strike="noStrike">
                <a:solidFill>
                  <a:srgbClr val="000000"/>
                </a:solidFill>
                <a:latin typeface="Calibri Light"/>
              </a:rPr>
              <a:t>Eligibility shall further subject to deduction towards housing loan shall not exceed 45% of the monthly gross salary</a:t>
            </a:r>
            <a:br>
              <a:rPr sz="1800"/>
            </a:br>
            <a:br>
              <a:rPr sz="1600"/>
            </a:br>
            <a:endParaRPr b="0" lang="en-US" sz="1800" spc="-1" strike="noStrike">
              <a:solidFill>
                <a:srgbClr val="000000"/>
              </a:solidFill>
              <a:latin typeface="Calibri Light"/>
            </a:endParaRPr>
          </a:p>
        </p:txBody>
      </p:sp>
      <p:pic>
        <p:nvPicPr>
          <p:cNvPr id="233" name="Picture 2" descr=""/>
          <p:cNvPicPr/>
          <p:nvPr/>
        </p:nvPicPr>
        <p:blipFill>
          <a:blip r:embed="rId1"/>
          <a:stretch/>
        </p:blipFill>
        <p:spPr>
          <a:xfrm>
            <a:off x="628560" y="2154240"/>
            <a:ext cx="7886880" cy="36939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228240" y="228600"/>
            <a:ext cx="8458200" cy="632448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estival advance –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Rs.50000 or one month gross salary for Officers whichever is les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Rs.40000 or one month gross salary for Class III / IV employee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Rs.20000 or one month basic + DA (on pro-rata basis) for PTE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Once in a calendar year</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10 equal installment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atural Calamity advance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Damage in the station of posting or in home town</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Rs.50000 – 25 equal installment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57200" y="152280"/>
            <a:ext cx="8229600" cy="65534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sidential Accommodation (wef  01/04/2023)</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236" name="Picture 1" descr=""/>
          <p:cNvPicPr/>
          <p:nvPr/>
        </p:nvPicPr>
        <p:blipFill>
          <a:blip r:embed="rId1"/>
          <a:stretch/>
        </p:blipFill>
        <p:spPr>
          <a:xfrm>
            <a:off x="609480" y="846000"/>
            <a:ext cx="7772400" cy="479268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Content Placeholder 3" descr=""/>
          <p:cNvPicPr/>
          <p:nvPr/>
        </p:nvPicPr>
        <p:blipFill>
          <a:blip r:embed="rId1"/>
          <a:stretch/>
        </p:blipFill>
        <p:spPr>
          <a:xfrm>
            <a:off x="457200" y="304920"/>
            <a:ext cx="8229600" cy="2589120"/>
          </a:xfrm>
          <a:prstGeom prst="rect">
            <a:avLst/>
          </a:prstGeom>
          <a:ln w="0">
            <a:noFill/>
          </a:ln>
        </p:spPr>
      </p:pic>
      <p:pic>
        <p:nvPicPr>
          <p:cNvPr id="238" name="Picture 4" descr=""/>
          <p:cNvPicPr/>
          <p:nvPr/>
        </p:nvPicPr>
        <p:blipFill>
          <a:blip r:embed="rId2"/>
          <a:stretch/>
        </p:blipFill>
        <p:spPr>
          <a:xfrm>
            <a:off x="457200" y="3363840"/>
            <a:ext cx="8458200" cy="273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3T10:52:43Z</dcterms:created>
  <dc:creator>Bhaskar</dc:creator>
  <dc:description/>
  <dc:language>en-US</dc:language>
  <cp:lastModifiedBy>Bha27422</cp:lastModifiedBy>
  <dcterms:modified xsi:type="dcterms:W3CDTF">2024-11-25T08:00:55Z</dcterms:modified>
  <cp:revision>473</cp:revision>
  <dc:subject/>
  <dc:title>PowerPoint Presentation</dc:title>
</cp:coreProperties>
</file>